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781-6DA1-4DC9-BEE3-9C724E22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E9D-2780-4EAF-9FEC-04A2CE20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525-1789-4A98-A823-9C6A4ADC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7D5-69C0-4DCA-8DEF-C79579B3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0FF-E87E-4464-86B2-B25E5437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479-7B21-44FD-AE89-65CB5D09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5CA-D7A2-4CE5-8E46-61B14BE4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D7B-C2B9-4FC6-BDBB-6D75AA93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AE4-DB00-409C-98B9-BBF74F17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251-3D03-472C-B3DD-0F99B7E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8CC-8488-412C-99D1-67A94DB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DCD-5A65-4499-9DD8-3C677F04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305A-0766-4D65-8883-5B34CBA90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7090" r="0" b="9247"/>
          <a:stretch/>
        </p:blipFill>
        <p:spPr>
          <a:xfrm>
            <a:off x="457200" y="457200"/>
            <a:ext cx="8229600" cy="26668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685800" y="3352680"/>
            <a:ext cx="78487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ari ini  :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Jumat  12 - April  2013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habath   1 - Iyar (bln 8)  5773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Virtue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aca :  fer’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5. In virtue, in consequence; by the efficacy or autho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6. partly in virtue of the promis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he 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HE took our sin-dead liv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and  made us   alive in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HE did all this on HIS ow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with NO Help  from us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Then  HE pick  it  us  u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and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set us down in Highest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Rockwell"/>
              </a:rPr>
              <a:t>in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Rockwell"/>
              </a:rPr>
              <a:t>com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p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Rockwell"/>
              </a:rPr>
              <a:t>an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y  with 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our Messia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1676520" y="990720"/>
            <a:ext cx="6172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aati  Kuasa 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Perjanjian Garam"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ang Kekal  !!!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990720" y="304812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 Covenant of Sal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erith Melak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RMK003"/>
          <p:cNvPicPr/>
          <p:nvPr/>
        </p:nvPicPr>
        <p:blipFill>
          <a:blip r:embed="rId1"/>
          <a:stretch/>
        </p:blipFill>
        <p:spPr>
          <a:xfrm>
            <a:off x="762120" y="345960"/>
            <a:ext cx="6072120" cy="6166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4" name="Line 3"/>
          <p:cNvSpPr/>
          <p:nvPr/>
        </p:nvSpPr>
        <p:spPr>
          <a:xfrm flipV="1">
            <a:off x="4724280" y="16765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4724280" y="2437920"/>
            <a:ext cx="91440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3733920" y="152352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5334120" y="2819160"/>
            <a:ext cx="76176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1981080" y="3428640"/>
            <a:ext cx="1600200" cy="106668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952880" y="3352680"/>
            <a:ext cx="1067040" cy="15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12280" y="4267080"/>
            <a:ext cx="423000" cy="70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ok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a’e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- Raja Si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kim 4:17  Sisera cari Yael – ad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. 18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ira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ncountering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rn in  … turn in … turn in to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rah </a:t>
            </a:r>
            <a:r>
              <a:rPr b="1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surah </a:t>
            </a:r>
            <a:r>
              <a:rPr b="1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elekha ha’ohe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סוּרָה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אֲדֹנִי </a:t>
            </a:r>
            <a:r>
              <a:rPr b="0" lang="he-IL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סוּרָה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אֵלַי אַל-תִירָא וַיָסַר              </a:t>
            </a:r>
            <a:r>
              <a:rPr b="0" lang="he-IL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אֵלֶיהָ הָאֹהֱלָה</a:t>
            </a:r>
            <a:r>
              <a:rPr b="0" lang="he-IL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kim 4: Deborah – 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bia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k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y.6 : Perintah YAHVEH Elohim “majulah”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: YAHVEH “menyerahkan”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: inilah hari-nya YAHVEH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HVEH “telah maju”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: YAHVEH “mengacauk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: 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ta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Yael   ….. Mati-lah 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rang it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= </a:t>
            </a: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VaThikak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ayam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438280" y="457200"/>
            <a:ext cx="4648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solidFill>
                    <a:srgbClr val="ff00ff"/>
                  </a:solidFill>
                </a:ln>
                <a:solidFill>
                  <a:srgbClr val="000000"/>
                </a:solidFill>
                <a:latin typeface="Times New Roman"/>
              </a:rPr>
              <a:t>Peranan Wanita !</a:t>
            </a:r>
            <a:endParaRPr b="0" lang="en-US" sz="2400" spc="1" strike="noStrike">
              <a:ln w="0">
                <a:solidFill>
                  <a:srgbClr val="ff00ff"/>
                </a:solidFill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19720" y="4343400"/>
            <a:ext cx="761760" cy="3808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238880" cy="160020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oritas – Penghormat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berkat TUHAN”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uble 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743200"/>
            <a:ext cx="5410080" cy="17524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 Timotius 5 : 17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2514600" y="4724280"/>
            <a:ext cx="3733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 Petrus 2 : 9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Paskah Seder Pesakh.jpg"/>
          <p:cNvPicPr/>
          <p:nvPr/>
        </p:nvPicPr>
        <p:blipFill>
          <a:blip r:embed="rId1"/>
          <a:stretch/>
        </p:blipFill>
        <p:spPr>
          <a:xfrm>
            <a:off x="262080" y="512640"/>
            <a:ext cx="8577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telah ada in ~heavenly places~.jpg"/>
          <p:cNvPicPr/>
          <p:nvPr/>
        </p:nvPicPr>
        <p:blipFill>
          <a:blip r:embed="rId1"/>
          <a:stretch/>
        </p:blipFill>
        <p:spPr>
          <a:xfrm>
            <a:off x="341280" y="122400"/>
            <a:ext cx="845496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1600200" y="99072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oluntas Eurest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371600" y="2362320"/>
            <a:ext cx="6400800" cy="21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ff00ff"/>
                  </a:solidFill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Perjanjian Garam</a:t>
            </a:r>
            <a:endParaRPr b="1" lang="en-US" sz="2400" spc="1" strike="noStrike">
              <a:ln w="0">
                <a:solidFill>
                  <a:srgbClr val="ff00ff"/>
                </a:solidFill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ff00ff"/>
                  </a:solidFill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( Garam Perjanjian )</a:t>
            </a:r>
            <a:endParaRPr b="1" lang="en-US" sz="2400" spc="1" strike="noStrike">
              <a:ln w="0">
                <a:solidFill>
                  <a:srgbClr val="ff00ff"/>
                </a:solidFill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solidFill>
                  <a:srgbClr val="ff00ff"/>
                </a:solidFill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ff00ff"/>
                  </a:solidFill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Imamat 2:13</a:t>
            </a:r>
            <a:endParaRPr b="1" lang="en-US" sz="2400" spc="1" strike="noStrike">
              <a:ln w="0">
                <a:solidFill>
                  <a:srgbClr val="ff00ff"/>
                </a:solidFill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ff00ff"/>
                  </a:solidFill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Bilangan 18:19</a:t>
            </a:r>
            <a:endParaRPr b="1" lang="en-US" sz="2400" spc="1" strike="noStrike">
              <a:ln w="0">
                <a:solidFill>
                  <a:srgbClr val="ff00ff"/>
                </a:solidFill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ff00ff"/>
                  </a:solidFill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2Tawarikh 13:5</a:t>
            </a:r>
            <a:endParaRPr b="1" lang="en-US" sz="2400" spc="1" strike="noStrike">
              <a:ln w="0">
                <a:solidFill>
                  <a:srgbClr val="ff00ff"/>
                </a:solidFill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990720" y="609480"/>
            <a:ext cx="71625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lohi  Khibur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ivine Connection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1066680" y="3505320"/>
            <a:ext cx="708660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solidFill>
                    <a:srgbClr val="800080"/>
                  </a:solidFill>
                </a:ln>
                <a:solidFill>
                  <a:srgbClr val="000000"/>
                </a:solidFill>
                <a:latin typeface="Times New Roman"/>
              </a:rPr>
              <a:t>M e L e Kh = RAJA</a:t>
            </a:r>
            <a:endParaRPr b="0" lang="en-US" sz="2400" spc="1" strike="noStrike">
              <a:ln w="0">
                <a:solidFill>
                  <a:srgbClr val="800080"/>
                </a:solidFill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solidFill>
                    <a:srgbClr val="800080"/>
                  </a:solidFill>
                </a:ln>
                <a:solidFill>
                  <a:srgbClr val="000000"/>
                </a:solidFill>
                <a:latin typeface="Times New Roman"/>
              </a:rPr>
              <a:t>M a L a Kh = Malaikat</a:t>
            </a:r>
            <a:endParaRPr b="0" lang="en-US" sz="2400" spc="1" strike="noStrike">
              <a:ln w="0">
                <a:solidFill>
                  <a:srgbClr val="800080"/>
                </a:solidFill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solidFill>
                    <a:srgbClr val="800080"/>
                  </a:solidFill>
                </a:ln>
                <a:solidFill>
                  <a:srgbClr val="000000"/>
                </a:solidFill>
                <a:latin typeface="Times New Roman"/>
              </a:rPr>
              <a:t>M e L a Kh = Garam</a:t>
            </a:r>
            <a:endParaRPr b="0" lang="en-US" sz="2400" spc="1" strike="noStrike">
              <a:ln w="0">
                <a:solidFill>
                  <a:srgbClr val="800080"/>
                </a:solidFill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Fellowship = 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 Black"/>
              </a:rPr>
              <a:t>Persekutuan</a:t>
            </a: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”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Koinoni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- 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 Black"/>
              </a:rPr>
              <a:t>Vithumeth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 Black"/>
              </a:rPr>
              <a:t>Y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05920" cy="17524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Rockwell"/>
              </a:rPr>
              <a:t>“ </a:t>
            </a:r>
            <a:r>
              <a:rPr b="1" i="1" lang="en-US" sz="3600" spc="-1" strike="noStrike">
                <a:solidFill>
                  <a:srgbClr val="000000"/>
                </a:solidFill>
                <a:latin typeface="Rockwell"/>
              </a:rPr>
              <a:t>Joint Property 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Rockwell"/>
              </a:rPr>
              <a:t>jug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Rockwell"/>
              </a:rPr>
              <a:t>Joint Kuasa, didalam </a:t>
            </a:r>
            <a:r>
              <a:rPr b="1" i="1" lang="en-US" sz="3600" spc="-1" strike="noStrike">
                <a:solidFill>
                  <a:srgbClr val="ff0066"/>
                </a:solidFill>
                <a:latin typeface="Rockwell"/>
              </a:rPr>
              <a:t>Darah</a:t>
            </a:r>
            <a:r>
              <a:rPr b="1" i="1" lang="en-US" sz="36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Rockwell"/>
              </a:rPr>
              <a:t>N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Eph 2:6  Karena kita bersatu dengan Kristus Yesus, Allah menghidupkan kita kembali bersama-sama Dia, </a:t>
            </a:r>
            <a:r>
              <a:rPr b="0" i="1" lang="en-US" sz="4000" spc="-1" strike="noStrike">
                <a:solidFill>
                  <a:srgbClr val="ff0000"/>
                </a:solidFill>
                <a:latin typeface="Rockwell"/>
              </a:rPr>
              <a:t>supaya kita memerintah juga bersama-sama Dia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di dalam surga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Rockwell"/>
              </a:rPr>
              <a:t>Alkitab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Rockwell"/>
              </a:rPr>
              <a:t>Bahasa Indonesia se-hari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ph 2: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and raised us up with him, and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ade us to sit with him in the heavenly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pla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hrist Jes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Bahasa Inggris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 Black"/>
              </a:rPr>
              <a:t>TIDAK mengenal SANT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had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Yang Suci – Yang Terhormat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Branton’s English Septuagint </a:t>
            </a:r>
            <a:r>
              <a:rPr b="1" lang="en-US" sz="3600" spc="-1" strike="noStrike">
                <a:solidFill>
                  <a:srgbClr val="ff3300"/>
                </a:solidFill>
                <a:latin typeface="Rockwell"/>
              </a:rPr>
              <a:t>18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Eph 2:6  and has raised </a:t>
            </a:r>
            <a:r>
              <a:rPr b="0" i="1" lang="en-US" sz="4000" spc="-1" strike="noStrike">
                <a:solidFill>
                  <a:srgbClr val="000000"/>
                </a:solidFill>
                <a:latin typeface="Rockwell"/>
              </a:rPr>
              <a:t>us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up together, and </a:t>
            </a:r>
            <a:r>
              <a:rPr b="0" lang="en-US" sz="4000" spc="-1" strike="noStrike">
                <a:solidFill>
                  <a:srgbClr val="ff3300"/>
                </a:solidFill>
                <a:latin typeface="Rockwell"/>
              </a:rPr>
              <a:t>has made </a:t>
            </a:r>
            <a:r>
              <a:rPr b="0" i="1" lang="en-US" sz="4000" spc="-1" strike="noStrike">
                <a:solidFill>
                  <a:srgbClr val="ff3300"/>
                </a:solidFill>
                <a:latin typeface="Rockwell"/>
              </a:rPr>
              <a:t>us</a:t>
            </a:r>
            <a:r>
              <a:rPr b="0" lang="en-US" sz="4000" spc="-1" strike="noStrike">
                <a:solidFill>
                  <a:srgbClr val="ff3300"/>
                </a:solidFill>
                <a:latin typeface="Rockwell"/>
              </a:rPr>
              <a:t> sit down together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in the heavenlies in Christ Jes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Rockwell"/>
              </a:rPr>
              <a:t>Amplified  B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hesians  2: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E raised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p together with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de us sit down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 giving us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j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seatin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HIM ]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Heavenly 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by </a:t>
            </a:r>
            <a:r>
              <a:rPr b="0" i="1" lang="en-US" sz="3200" spc="-1" strike="noStrike">
                <a:solidFill>
                  <a:srgbClr val="0000ff"/>
                </a:solidFill>
                <a:latin typeface="Arial Black"/>
              </a:rPr>
              <a:t>virt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being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irst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=The Messiah, the Anointed 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Virtu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aca : fer’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1. Acting power; something effica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2. Jesus, knowing that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irtue had go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out of him,  Mark 5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3. Excellence; or that which co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value and me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4. Thrones, Dominations, Princedo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Virtues, P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9:11:12Z</dcterms:created>
  <dc:creator>Personal</dc:creator>
  <dc:description/>
  <dc:language>en-US</dc:language>
  <cp:lastModifiedBy>Grace Wijaya</cp:lastModifiedBy>
  <dcterms:modified xsi:type="dcterms:W3CDTF">2013-04-21T16:47:52Z</dcterms:modified>
  <cp:revision>13</cp:revision>
  <dc:subject/>
  <dc:title>Slide 1</dc:title>
</cp:coreProperties>
</file>