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8.png" ContentType="image/png"/>
  <Override PartName="/ppt/media/image14.jpeg" ContentType="image/jpeg"/>
  <Override PartName="/ppt/media/image3.gif" ContentType="image/gif"/>
  <Override PartName="/ppt/media/image6.png" ContentType="image/png"/>
  <Override PartName="/ppt/media/image20.png" ContentType="image/png"/>
  <Override PartName="/ppt/media/image15.gif" ContentType="image/gif"/>
  <Override PartName="/ppt/media/image5.gif" ContentType="image/gif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1.jpeg" ContentType="image/jpeg"/>
  <Override PartName="/ppt/media/image9.jpeg" ContentType="image/jpeg"/>
  <Override PartName="/ppt/media/image4.gif" ContentType="image/gif"/>
  <Override PartName="/ppt/media/image1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type.wav" ContentType="audio/x-wav"/>
  <Override PartName="/ppt/media/image19.jpeg" ContentType="image/jpeg"/>
  <Override PartName="/ppt/media/image21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761E-B516-4EA9-BB44-4BDEF305B3EB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A9E0-C3A2-436D-BAF3-2C90C683A17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8AC8-FE4F-46D1-8463-451C02C7CBE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C555-7C77-4920-A01F-760C94209BB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0412-9AC1-49F3-A5B2-4CFD4119C50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DD5F-C134-45A5-9D55-B857544AFEF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8560-011B-4124-A9C9-808B404A7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61F7-E3FB-4FD3-B1B1-C1B50431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B0EB-9D1C-44FB-8E04-F66274E98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A731-3354-4899-A381-0CEE78D07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CB01-6B4E-4945-8949-C9789134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7375-D60C-4D88-94EA-F9B2A896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53B3-F8FC-46D8-91FF-4DA16AF2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125D-FE42-406E-A974-779F5C70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1888-D130-4C45-9E18-C03E1150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EE29-D7FA-4502-A926-44615B0D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9E40-C4EE-445F-8CDF-F3ED20F5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63B4-56B2-4BB9-B26E-08370300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2D17-E32A-489C-993E-C221AFE36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5.xml"/><Relationship Id="rId6" Type="http://schemas.openxmlformats.org/officeDocument/2006/relationships/slide" Target="slide34.xml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.xml"/><Relationship Id="rId3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gif"/><Relationship Id="rId5" Type="http://schemas.openxmlformats.org/officeDocument/2006/relationships/image" Target="../media/image16.png"/><Relationship Id="rId6" Type="http://schemas.openxmlformats.org/officeDocument/2006/relationships/slide" Target="slide1.xml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19280" y="18900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M grapjes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250920" y="1125360"/>
            <a:ext cx="395928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Men are always m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3" action="ppaction://hlinksldjump"/>
          </p:cNvPr>
          <p:cNvSpPr/>
          <p:nvPr/>
        </p:nvSpPr>
        <p:spPr>
          <a:xfrm>
            <a:off x="1042920" y="2133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nl-BE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erced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4" action="ppaction://hlinksldjump"/>
          </p:cNvPr>
          <p:cNvSpPr/>
          <p:nvPr/>
        </p:nvSpPr>
        <p:spPr>
          <a:xfrm>
            <a:off x="179280" y="3141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t 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5" action="ppaction://hlinksldjump"/>
          </p:cNvPr>
          <p:cNvSpPr/>
          <p:nvPr/>
        </p:nvSpPr>
        <p:spPr>
          <a:xfrm>
            <a:off x="1042920" y="4149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Mijn cari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6" action="ppaction://hlinksldjump"/>
          </p:cNvPr>
          <p:cNvSpPr/>
          <p:nvPr/>
        </p:nvSpPr>
        <p:spPr>
          <a:xfrm>
            <a:off x="250920" y="5157720"/>
            <a:ext cx="395928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Mijn plant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6516720" y="981000"/>
            <a:ext cx="1368360" cy="849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3853080" y="2783880"/>
            <a:ext cx="18072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1282320" y="476280"/>
            <a:ext cx="686196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99"/>
                </a:solidFill>
                <a:latin typeface="Arial"/>
              </a:rPr>
              <a:t>Wat doet een Engelsman met 67 ?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4589640" y="2349360"/>
            <a:ext cx="388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Hij drinkt een wis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4643280" y="3801960"/>
            <a:ext cx="482472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En geniet van zijn pensioen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"/>
          <p:cNvPicPr/>
          <p:nvPr/>
        </p:nvPicPr>
        <p:blipFill>
          <a:blip r:embed="rId2"/>
          <a:srcRect l="10843" t="8310" r="10572" b="9013"/>
          <a:stretch/>
        </p:blipFill>
        <p:spPr>
          <a:xfrm>
            <a:off x="395280" y="1341360"/>
            <a:ext cx="4176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1353960" y="620640"/>
            <a:ext cx="663624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99"/>
                </a:solidFill>
                <a:latin typeface="Arial"/>
              </a:rPr>
              <a:t>Wat doet een Fransman met 67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4949640" y="2463840"/>
            <a:ext cx="352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Hij drinkt een gl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champag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4392720" cy="34815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5009760" y="501336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en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4211640" y="1930320"/>
            <a:ext cx="49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Gaat naar zijn maitress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353960" y="620640"/>
            <a:ext cx="663624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99"/>
                </a:solidFill>
                <a:latin typeface="Arial"/>
              </a:rPr>
              <a:t>Wat doet een Fransman met 67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schwarz-weissfotografie1"/>
          <p:cNvPicPr/>
          <p:nvPr/>
        </p:nvPicPr>
        <p:blipFill>
          <a:blip r:embed="rId2"/>
          <a:stretch/>
        </p:blipFill>
        <p:spPr>
          <a:xfrm>
            <a:off x="826920" y="1413000"/>
            <a:ext cx="31957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685800" y="21445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147320" y="549360"/>
            <a:ext cx="701748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99"/>
                </a:solidFill>
                <a:latin typeface="Arial"/>
              </a:rPr>
              <a:t>Wat doet een Nederlander met 67 ?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5310000" y="2392200"/>
            <a:ext cx="356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Hij neemt zijn hart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versterken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drupp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2"/>
          <a:stretch/>
        </p:blipFill>
        <p:spPr>
          <a:xfrm>
            <a:off x="1116000" y="1341360"/>
            <a:ext cx="3870360" cy="51595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8"/>
          <p:cNvSpPr/>
          <p:nvPr/>
        </p:nvSpPr>
        <p:spPr>
          <a:xfrm>
            <a:off x="5439600" y="50133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502200" y="6237360"/>
            <a:ext cx="671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ar verheugen we ons toch allemaal op ........?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478440" y="44280"/>
            <a:ext cx="30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00"/>
                </a:solidFill>
                <a:latin typeface="Arial"/>
              </a:rPr>
              <a:t>Gaat  weer aan het wer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pic21561"/>
          <p:cNvPicPr/>
          <p:nvPr/>
        </p:nvPicPr>
        <p:blipFill>
          <a:blip r:embed="rId2"/>
          <a:stretch/>
        </p:blipFill>
        <p:spPr>
          <a:xfrm>
            <a:off x="250920" y="476280"/>
            <a:ext cx="8569080" cy="5751360"/>
          </a:xfrm>
          <a:prstGeom prst="rect">
            <a:avLst/>
          </a:prstGeom>
          <a:ln w="0">
            <a:noFill/>
          </a:ln>
        </p:spPr>
      </p:pic>
      <p:pic>
        <p:nvPicPr>
          <p:cNvPr id="97" name="Beatrix.wav" descr=""/>
          <p:cNvPicPr/>
          <p:nvPr/>
        </p:nvPicPr>
        <p:blipFill>
          <a:blip r:embed="rId3"/>
          <a:stretch/>
        </p:blipFill>
        <p:spPr>
          <a:xfrm>
            <a:off x="7500960" y="63579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8" name="">
            <a:hlinkClick r:id="rId4" action="ppaction://hlinksldjump"/>
          </p:cNvPr>
          <p:cNvSpPr/>
          <p:nvPr/>
        </p:nvSpPr>
        <p:spPr>
          <a:xfrm>
            <a:off x="7596360" y="5877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9442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WAAROM IK MIJN JOB BEN VERLOR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IK WAS EERST VORKLIFTCHAUFFEUR BIJ HET LEGER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75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066680" y="457200"/>
            <a:ext cx="7772400" cy="582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828800" y="228600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DAARNA WAS IK KRAANMAN OP WIELEN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98108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GEZIEN MIJN ERVARING BEN IK DAARNA IN EEN CONTAINERKRAAN GAAN WERKEN AAN DE DOK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95280" y="600120"/>
            <a:ext cx="849780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739152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98108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ZE HEBBEN MIJ ZELFS GEVRAAGD OM KRAANMAN TE WORDEN IN DEN BOUW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143000" y="990720"/>
            <a:ext cx="7696080" cy="49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82880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IK HAD ZELFS ZOVEEL ERVARING MET CONTAINERS DAT ZE MIJ GEVRAAGD HEBBEN ALS VERANTWOORDELIJKE VOOR HET LADEN VAN SCHEPEN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371600" y="457200"/>
            <a:ext cx="7238880" cy="54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828800" y="2437920"/>
            <a:ext cx="64008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DAT VORIGE WAS ECHT EEN ONGELUKJE…. HET WAS MIJN EERSTE BOOTJE….AL SNEL KREEG IK DE KANS OM EEN GROTER BOOTJE TE MOGEN VULLEN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523880" y="83808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60020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VERMITS ZE VONDEN DAT HET EIGENLIJK NIET ZO GOED LUKTE, HEBBEN ZE MIJ GEVRAAGD OM DAN DE BOOTJES TE LOODSEN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143000" y="838080"/>
            <a:ext cx="7696080" cy="513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82880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NOG WAREN ZE NIET TEVREDEN…ZE HEBBEN MIJ TOEN BENENDENDEKS GESTUURD ALS MECANICIEN….DAAR ZAG IK PLOTS EEN STOPJE DAT IK DOMWEG HEB UITGETROKKEN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556000" y="476280"/>
            <a:ext cx="4370400" cy="5842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733920" y="0"/>
            <a:ext cx="5133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ww.funnybytes.ne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523880" y="685800"/>
            <a:ext cx="7162920" cy="537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981080" y="129528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TOEN HEEFT MIJN BAAS MIJ GEVRAAGD OF IK ECHT « NIETS » IN MIJN BOVENKAMER HAD ZITTEN…UIT PURE COLERE HEB IK HEM DAN DEVOLGENDE HERSENSCAN LATEN ZIEN…HIJ BEGREEP DIRECT ALLES EN VERONTSCHULDIGDE ZICH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133720" y="685800"/>
            <a:ext cx="523224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82880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TOEN HEBBEN SPECIALISTEN MIJ GEZEGD : JE BENT BETER AF ALS AMBTENAAR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2" action="ppaction://hlinksldjump"/>
          </p:cNvPr>
          <p:cNvSpPr/>
          <p:nvPr/>
        </p:nvSpPr>
        <p:spPr>
          <a:xfrm>
            <a:off x="7596360" y="5877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838080" y="1828800"/>
            <a:ext cx="7391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lbertus Medium"/>
              </a:rPr>
              <a:t>Ik ga op vakantie voor 1 ma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lbertus Medium"/>
              </a:rPr>
              <a:t>Kun jij mijn planten water geven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56000" y="2708280"/>
            <a:ext cx="518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600" spc="-1" strike="noStrike">
                <a:solidFill>
                  <a:srgbClr val="000000"/>
                </a:solidFill>
                <a:latin typeface="Comic Sans MS"/>
              </a:rPr>
              <a:t>Bedankt 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rId2" action="ppaction://hlinksldjump"/>
          </p:cNvPr>
          <p:cNvSpPr/>
          <p:nvPr/>
        </p:nvSpPr>
        <p:spPr>
          <a:xfrm>
            <a:off x="7596360" y="5877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900000" y="1052640"/>
            <a:ext cx="7488360" cy="4924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324000" y="5516640"/>
            <a:ext cx="5133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ww.funnybytes.ne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411280" y="765000"/>
            <a:ext cx="4321440" cy="47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547640" y="1052640"/>
            <a:ext cx="6085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771640" y="620640"/>
            <a:ext cx="324036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484360" y="692280"/>
            <a:ext cx="4210200" cy="5244840"/>
          </a:xfrm>
          <a:prstGeom prst="rect">
            <a:avLst/>
          </a:prstGeom>
          <a:ln w="0">
            <a:noFill/>
          </a:ln>
        </p:spPr>
      </p:pic>
      <p:sp>
        <p:nvSpPr>
          <p:cNvPr id="67" name="">
            <a:hlinkClick r:id="rId3" action="ppaction://hlinksldjump"/>
          </p:cNvPr>
          <p:cNvSpPr/>
          <p:nvPr/>
        </p:nvSpPr>
        <p:spPr>
          <a:xfrm>
            <a:off x="7596360" y="5877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204640"/>
            <a:ext cx="8796240" cy="41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 boer maakt de volgende faktuur:</a:t>
            </a:r>
            <a:br>
              <a:rPr sz="1600"/>
            </a:b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aktuur</a:t>
            </a:r>
            <a:br>
              <a:rPr sz="2800"/>
            </a:b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 koe (standaard versie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 basisprij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.400 €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 kleuren (zwart/wit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 plus-valu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150 €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deren uitvoeri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100 €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lkreservoir voor gebruik in winter en zom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50 €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 kranen om te melk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 aan 12,50 €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50 €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 bumpers, uitvoering in hoorn           aan 17,50 €       35 €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liegenmepper, half-automatisc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30 €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ookverdeler (BIO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60 €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arzen voor alle terreinen en alle we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         100 €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msysteem 2 circuits (poten V+A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400 €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klax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eerdere geluid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         135 €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gen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LOGEN    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150 €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bruik van meerdere veevoeders mogelijk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1.250 €</a:t>
            </a:r>
            <a:br>
              <a:rPr sz="1600"/>
            </a:b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otale koe volgens aanbiedi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4.910 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774680" y="342720"/>
            <a:ext cx="40323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en boer koopt een Mercedes van de nieuwe E-klasse, direct bij Daimler-Benz AG. Hij zit verveeld met de bijkomende kosten voor de uitrustingen die niet standaard zij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en beetje later koopt een directeur van Daimler-Benz AG bij die boer een koe voor zijn vrijetijdsboerderi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116000" y="351000"/>
            <a:ext cx="1504800" cy="7887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E-Klasse Limousine"/>
          <p:cNvPicPr/>
          <p:nvPr/>
        </p:nvPicPr>
        <p:blipFill>
          <a:blip r:embed="rId3"/>
          <a:stretch/>
        </p:blipFill>
        <p:spPr>
          <a:xfrm>
            <a:off x="347760" y="1646280"/>
            <a:ext cx="4101840" cy="7700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877080" y="6453360"/>
            <a:ext cx="9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7080" y="6507000"/>
            <a:ext cx="95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6012000" y="2619360"/>
            <a:ext cx="1766880" cy="704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9550440" y="6629400"/>
            <a:ext cx="406440" cy="22860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rId6" action="ppaction://hlinksldjump"/>
          </p:cNvPr>
          <p:cNvSpPr/>
          <p:nvPr/>
        </p:nvSpPr>
        <p:spPr>
          <a:xfrm>
            <a:off x="7596360" y="5877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6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465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3345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3845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4345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4845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8:55:52Z</dcterms:created>
  <dc:creator>www.free-powerpoints.goedbegin.be </dc:creator>
  <dc:description/>
  <dc:language>en-US</dc:language>
  <cp:lastModifiedBy>Smets</cp:lastModifiedBy>
  <dcterms:modified xsi:type="dcterms:W3CDTF">2009-03-13T06:00:02Z</dcterms:modified>
  <cp:revision>162</cp:revision>
  <dc:subject/>
  <dc:title>Dia 1</dc:title>
</cp:coreProperties>
</file>