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27.jpeg" ContentType="image/jpeg"/>
  <Override PartName="/ppt/media/image26.jpeg" ContentType="image/jpeg"/>
  <Override PartName="/ppt/media/image24.jpeg" ContentType="image/jpeg"/>
  <Override PartName="/ppt/media/image22.png" ContentType="image/png"/>
  <Override PartName="/ppt/media/image8.png" ContentType="image/png"/>
  <Override PartName="/ppt/media/image14.jpeg" ContentType="image/jpeg"/>
  <Override PartName="/ppt/media/image3.gif" ContentType="image/gif"/>
  <Override PartName="/ppt/media/image6.png" ContentType="image/png"/>
  <Override PartName="/ppt/media/image20.png" ContentType="image/png"/>
  <Override PartName="/ppt/media/image15.gif" ContentType="image/gif"/>
  <Override PartName="/ppt/media/image5.gif" ContentType="image/gif"/>
  <Override PartName="/ppt/media/image7.jpeg" ContentType="image/jpeg"/>
  <Override PartName="/ppt/media/image28.jpeg" ContentType="image/jpeg"/>
  <Override PartName="/ppt/media/image12.jpeg" ContentType="image/jpeg"/>
  <Override PartName="/ppt/media/image13.png" ContentType="image/png"/>
  <Override PartName="/ppt/media/image10.jpeg" ContentType="image/jpeg"/>
  <Override PartName="/ppt/media/image29.jpeg" ContentType="image/jpeg"/>
  <Override PartName="/ppt/media/image3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11.jpeg" ContentType="image/jpeg"/>
  <Override PartName="/ppt/media/image9.jpeg" ContentType="image/jpeg"/>
  <Override PartName="/ppt/media/image4.gif" ContentType="image/gif"/>
  <Override PartName="/ppt/media/image1.png" ContentType="image/png"/>
  <Override PartName="/ppt/media/image16.png" ContentType="image/png"/>
  <Override PartName="/ppt/media/image32.jpeg" ContentType="image/jpeg"/>
  <Override PartName="/ppt/media/image17.png" ContentType="image/png"/>
  <Override PartName="/ppt/media/image18.png" ContentType="image/png"/>
  <Override PartName="/ppt/media/type.wav" ContentType="audio/x-wav"/>
  <Override PartName="/ppt/media/image19.jpeg" ContentType="image/jpeg"/>
  <Override PartName="/ppt/media/image21.jpeg" ContentType="image/jpeg"/>
  <Override PartName="/ppt/media/image2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B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B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B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3823C-5AC2-4752-BF50-04159474D7F0}" type="slidenum">
              <a:rPr b="0" lang="nl-B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81722-05A0-4119-9198-D84E7ECAFE38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E84C5-E70C-41C0-AC46-6FF228E6548A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2272C-403E-4688-910C-288CE8BDD2D6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6B955-9A88-414B-9E75-005CD2A0FDF2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E7547-EAC9-408B-829D-F2B32DE1AD0A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4D5AF-C344-4C5A-BFC1-023909D25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8CA22-5B00-435D-AB7D-279B59174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A3CA1-0D3A-4BE8-95A1-E24D68F98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E04D8-48CD-4620-910F-166F59404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C83F6-CDB2-4250-95B6-601832F38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2AD8F-24E4-4F6C-A498-3913F91E2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EDF89-EAF4-44AD-84E3-D7A82229D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7DD83-6B97-49E8-823F-D0A1A06E5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C5390-6B13-4EBA-82F2-2D24AE37F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234E4-DB9C-4F4D-92E7-B11528CE7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01FE1-A8A4-4F40-8F0E-7FB90E715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B8BB1-1960-4C31-AC28-A32F37B1C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CEB90-992D-460F-BB2E-BBA173B1C1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2.xml"/><Relationship Id="rId3" Type="http://schemas.openxmlformats.org/officeDocument/2006/relationships/slide" Target="slide9.xml"/><Relationship Id="rId4" Type="http://schemas.openxmlformats.org/officeDocument/2006/relationships/slide" Target="slide10.xml"/><Relationship Id="rId5" Type="http://schemas.openxmlformats.org/officeDocument/2006/relationships/slide" Target="slide15.xml"/><Relationship Id="rId6" Type="http://schemas.openxmlformats.org/officeDocument/2006/relationships/slide" Target="slide34.xml"/><Relationship Id="rId7" Type="http://schemas.openxmlformats.org/officeDocument/2006/relationships/image" Target="../media/image3.gif"/><Relationship Id="rId8" Type="http://schemas.openxmlformats.org/officeDocument/2006/relationships/image" Target="../media/image4.gif"/><Relationship Id="rId9" Type="http://schemas.openxmlformats.org/officeDocument/2006/relationships/image" Target="../media/image4.gif"/><Relationship Id="rId10" Type="http://schemas.openxmlformats.org/officeDocument/2006/relationships/image" Target="../media/image5.gif"/><Relationship Id="rId11" Type="http://schemas.openxmlformats.org/officeDocument/2006/relationships/image" Target="../media/image5.gif"/><Relationship Id="rId1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1.jpeg"/><Relationship Id="rId3" Type="http://schemas.openxmlformats.org/officeDocument/2006/relationships/image" Target="../media/image22.png"/><Relationship Id="rId4" Type="http://schemas.openxmlformats.org/officeDocument/2006/relationships/slide" Target="slide1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1.xml"/><Relationship Id="rId3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jpeg"/><Relationship Id="rId3" Type="http://schemas.openxmlformats.org/officeDocument/2006/relationships/slide" Target="slide1.xml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image" Target="../media/image15.gif"/><Relationship Id="rId5" Type="http://schemas.openxmlformats.org/officeDocument/2006/relationships/image" Target="../media/image16.png"/><Relationship Id="rId6" Type="http://schemas.openxmlformats.org/officeDocument/2006/relationships/slide" Target="slide1.xml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619280" y="189000"/>
            <a:ext cx="54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ff"/>
                </a:solidFill>
                <a:latin typeface="Arial"/>
              </a:rPr>
              <a:t>M grapjes (3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>
            <a:hlinkClick r:id="rId2" action="ppaction://hlinksldjump"/>
          </p:cNvPr>
          <p:cNvSpPr/>
          <p:nvPr/>
        </p:nvSpPr>
        <p:spPr>
          <a:xfrm>
            <a:off x="250920" y="1125360"/>
            <a:ext cx="3959280" cy="792360"/>
          </a:xfrm>
          <a:prstGeom prst="rect">
            <a:avLst/>
          </a:prstGeom>
          <a:solidFill>
            <a:srgbClr val="ff0000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ffffff"/>
                </a:solidFill>
                <a:latin typeface="Arial"/>
              </a:rPr>
              <a:t>Men are always m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>
            <a:hlinkClick r:id="rId3" action="ppaction://hlinksldjump"/>
          </p:cNvPr>
          <p:cNvSpPr/>
          <p:nvPr/>
        </p:nvSpPr>
        <p:spPr>
          <a:xfrm>
            <a:off x="1042920" y="2133720"/>
            <a:ext cx="3959280" cy="792000"/>
          </a:xfrm>
          <a:prstGeom prst="rect">
            <a:avLst/>
          </a:prstGeom>
          <a:solidFill>
            <a:srgbClr val="ff0000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nl-BE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1" lang="nl-BE" sz="1800" spc="-1" strike="noStrike">
                <a:solidFill>
                  <a:srgbClr val="ffffff"/>
                </a:solidFill>
                <a:latin typeface="Arial"/>
              </a:rPr>
              <a:t>ercedes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>
            <a:hlinkClick r:id="rId4" action="ppaction://hlinksldjump"/>
          </p:cNvPr>
          <p:cNvSpPr/>
          <p:nvPr/>
        </p:nvSpPr>
        <p:spPr>
          <a:xfrm>
            <a:off x="179280" y="3141720"/>
            <a:ext cx="3959280" cy="792000"/>
          </a:xfrm>
          <a:prstGeom prst="rect">
            <a:avLst/>
          </a:prstGeom>
          <a:solidFill>
            <a:srgbClr val="ff0000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et 6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5" action="ppaction://hlinksldjump"/>
          </p:cNvPr>
          <p:cNvSpPr/>
          <p:nvPr/>
        </p:nvSpPr>
        <p:spPr>
          <a:xfrm>
            <a:off x="1042920" y="4149720"/>
            <a:ext cx="3959280" cy="792000"/>
          </a:xfrm>
          <a:prstGeom prst="rect">
            <a:avLst/>
          </a:prstGeom>
          <a:solidFill>
            <a:srgbClr val="ff0000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ffffff"/>
                </a:solidFill>
                <a:latin typeface="Arial"/>
              </a:rPr>
              <a:t>Mijn cari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>
            <a:hlinkClick r:id="rId6" action="ppaction://hlinksldjump"/>
          </p:cNvPr>
          <p:cNvSpPr/>
          <p:nvPr/>
        </p:nvSpPr>
        <p:spPr>
          <a:xfrm>
            <a:off x="250920" y="5157720"/>
            <a:ext cx="3959280" cy="792360"/>
          </a:xfrm>
          <a:prstGeom prst="rect">
            <a:avLst/>
          </a:prstGeom>
          <a:solidFill>
            <a:srgbClr val="ff0000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Mijn plantj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>
            <a:hlinkClick r:id="" action="ppaction://hlinkshowjump?jump=endshow"/>
          </p:cNvPr>
          <p:cNvPicPr/>
          <p:nvPr/>
        </p:nvPicPr>
        <p:blipFill>
          <a:blip r:embed="rId7"/>
          <a:stretch/>
        </p:blipFill>
        <p:spPr>
          <a:xfrm>
            <a:off x="6516720" y="981000"/>
            <a:ext cx="1368360" cy="8492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403280" y="5921280"/>
            <a:ext cx="6337440" cy="936720"/>
          </a:xfrm>
          <a:prstGeom prst="octagon">
            <a:avLst>
              <a:gd name="adj" fmla="val 29287"/>
            </a:avLst>
          </a:prstGeom>
          <a:solidFill>
            <a:srgbClr val="ffff00">
              <a:alpha val="4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2556000" y="6308640"/>
            <a:ext cx="4533840" cy="3430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latin typeface="Poor Richard"/>
              </a:rPr>
              <a:t>www.free-powerpoints.goedbegin.be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latin typeface="Poor Richard"/>
              <a:ea typeface="Poor Richard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1692360" y="6093000"/>
            <a:ext cx="5952960" cy="1998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stretch/>
                </a:blipFill>
                <a:latin typeface="Bookman Old Style"/>
              </a:rPr>
              <a:t>voor meer dan 2500 Powerpoints, click op onderstaande hyperlink</a:t>
            </a:r>
            <a:endParaRPr b="1" lang="en-US" sz="1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stretch/>
              </a:blipFill>
              <a:latin typeface="Bookman Old Style"/>
              <a:ea typeface="Bookman Old Style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autoRev="1" nodeType="after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2" dur="500" fill="hold"/>
                                        <p:tgtEl>
                                          <p:spTgt spid="5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3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" dur="250" autoRev="1" fill="hold"/>
                                        <p:tgtEl>
                                          <p:spTgt spid="5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4"/>
          <p:cNvSpPr/>
          <p:nvPr/>
        </p:nvSpPr>
        <p:spPr>
          <a:xfrm>
            <a:off x="3853080" y="2783880"/>
            <a:ext cx="180720" cy="23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6"/>
          <p:cNvSpPr/>
          <p:nvPr/>
        </p:nvSpPr>
        <p:spPr>
          <a:xfrm>
            <a:off x="1282320" y="476280"/>
            <a:ext cx="6861960" cy="581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333399"/>
                </a:solidFill>
                <a:latin typeface="Arial"/>
              </a:rPr>
              <a:t>Wat doet een Engelsman met 67 ?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9"/>
          <p:cNvSpPr/>
          <p:nvPr/>
        </p:nvSpPr>
        <p:spPr>
          <a:xfrm>
            <a:off x="4589640" y="2349360"/>
            <a:ext cx="388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333399"/>
                </a:solidFill>
                <a:latin typeface="Arial"/>
              </a:rPr>
              <a:t>Hij drinkt een wisk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10"/>
          <p:cNvSpPr/>
          <p:nvPr/>
        </p:nvSpPr>
        <p:spPr>
          <a:xfrm>
            <a:off x="4643280" y="3801960"/>
            <a:ext cx="4824720" cy="14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333399"/>
                </a:solidFill>
                <a:latin typeface="Arial"/>
              </a:rPr>
              <a:t>En geniet van zijn pensioen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11" descr=""/>
          <p:cNvPicPr/>
          <p:nvPr/>
        </p:nvPicPr>
        <p:blipFill>
          <a:blip r:embed="rId2"/>
          <a:srcRect l="10843" t="8310" r="10572" b="9013"/>
          <a:stretch/>
        </p:blipFill>
        <p:spPr>
          <a:xfrm>
            <a:off x="395280" y="1341360"/>
            <a:ext cx="417672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8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3"/>
          <p:cNvSpPr/>
          <p:nvPr/>
        </p:nvSpPr>
        <p:spPr>
          <a:xfrm>
            <a:off x="1353960" y="620640"/>
            <a:ext cx="6636240" cy="581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333399"/>
                </a:solidFill>
                <a:latin typeface="Arial"/>
              </a:rPr>
              <a:t>Wat doet een Fransman met 67 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4"/>
          <p:cNvSpPr/>
          <p:nvPr/>
        </p:nvSpPr>
        <p:spPr>
          <a:xfrm>
            <a:off x="4949640" y="2463840"/>
            <a:ext cx="3521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333399"/>
                </a:solidFill>
                <a:latin typeface="Arial"/>
              </a:rPr>
              <a:t>Hij drinkt een gl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333399"/>
                </a:solidFill>
                <a:latin typeface="Arial"/>
              </a:rPr>
              <a:t>champag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5" descr=""/>
          <p:cNvPicPr/>
          <p:nvPr/>
        </p:nvPicPr>
        <p:blipFill>
          <a:blip r:embed="rId2"/>
          <a:stretch/>
        </p:blipFill>
        <p:spPr>
          <a:xfrm>
            <a:off x="468360" y="1989000"/>
            <a:ext cx="4392720" cy="348156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6"/>
          <p:cNvSpPr/>
          <p:nvPr/>
        </p:nvSpPr>
        <p:spPr>
          <a:xfrm>
            <a:off x="5009760" y="5013360"/>
            <a:ext cx="115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333399"/>
                </a:solidFill>
                <a:latin typeface="Arial"/>
              </a:rPr>
              <a:t>en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1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10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2"/>
          <p:cNvSpPr/>
          <p:nvPr/>
        </p:nvSpPr>
        <p:spPr>
          <a:xfrm>
            <a:off x="4211640" y="1930320"/>
            <a:ext cx="49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333399"/>
                </a:solidFill>
                <a:latin typeface="Arial"/>
              </a:rPr>
              <a:t>Gaat naar zijn maitresse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3"/>
          <p:cNvSpPr/>
          <p:nvPr/>
        </p:nvSpPr>
        <p:spPr>
          <a:xfrm>
            <a:off x="1353960" y="620640"/>
            <a:ext cx="6636240" cy="581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333399"/>
                </a:solidFill>
                <a:latin typeface="Arial"/>
              </a:rPr>
              <a:t>Wat doet een Fransman met 67 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8" descr="schwarz-weissfotografie1"/>
          <p:cNvPicPr/>
          <p:nvPr/>
        </p:nvPicPr>
        <p:blipFill>
          <a:blip r:embed="rId2"/>
          <a:stretch/>
        </p:blipFill>
        <p:spPr>
          <a:xfrm>
            <a:off x="826920" y="1413000"/>
            <a:ext cx="3195720" cy="48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2"/>
          <p:cNvSpPr/>
          <p:nvPr/>
        </p:nvSpPr>
        <p:spPr>
          <a:xfrm>
            <a:off x="685800" y="214452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1147320" y="549360"/>
            <a:ext cx="7017480" cy="581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333399"/>
                </a:solidFill>
                <a:latin typeface="Arial"/>
              </a:rPr>
              <a:t>Wat doet een Nederlander met 67 ?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4"/>
          <p:cNvSpPr/>
          <p:nvPr/>
        </p:nvSpPr>
        <p:spPr>
          <a:xfrm>
            <a:off x="5310000" y="2392200"/>
            <a:ext cx="3565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333399"/>
                </a:solidFill>
                <a:latin typeface="Arial"/>
              </a:rPr>
              <a:t>Hij neemt zijn hart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333399"/>
                </a:solidFill>
                <a:latin typeface="Arial"/>
              </a:rPr>
              <a:t>versterkend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333399"/>
                </a:solidFill>
                <a:latin typeface="Arial"/>
              </a:rPr>
              <a:t>drupp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7" descr=""/>
          <p:cNvPicPr/>
          <p:nvPr/>
        </p:nvPicPr>
        <p:blipFill>
          <a:blip r:embed="rId2"/>
          <a:stretch/>
        </p:blipFill>
        <p:spPr>
          <a:xfrm>
            <a:off x="1116000" y="1341360"/>
            <a:ext cx="3870360" cy="515952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8"/>
          <p:cNvSpPr/>
          <p:nvPr/>
        </p:nvSpPr>
        <p:spPr>
          <a:xfrm>
            <a:off x="5439600" y="501336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333399"/>
                </a:solidFill>
                <a:latin typeface="Arial"/>
              </a:rPr>
              <a:t>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5"/>
          <p:cNvSpPr/>
          <p:nvPr/>
        </p:nvSpPr>
        <p:spPr>
          <a:xfrm>
            <a:off x="502200" y="6237360"/>
            <a:ext cx="671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aar verheugen we ons toch allemaal op ........?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6"/>
          <p:cNvSpPr/>
          <p:nvPr/>
        </p:nvSpPr>
        <p:spPr>
          <a:xfrm>
            <a:off x="478440" y="44280"/>
            <a:ext cx="302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00"/>
                </a:solidFill>
                <a:latin typeface="Arial"/>
              </a:rPr>
              <a:t>Gaat  weer aan het werk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4" descr="pic21561"/>
          <p:cNvPicPr/>
          <p:nvPr/>
        </p:nvPicPr>
        <p:blipFill>
          <a:blip r:embed="rId2"/>
          <a:stretch/>
        </p:blipFill>
        <p:spPr>
          <a:xfrm>
            <a:off x="250920" y="476280"/>
            <a:ext cx="8569080" cy="5751360"/>
          </a:xfrm>
          <a:prstGeom prst="rect">
            <a:avLst/>
          </a:prstGeom>
          <a:ln w="0">
            <a:noFill/>
          </a:ln>
        </p:spPr>
      </p:pic>
      <p:pic>
        <p:nvPicPr>
          <p:cNvPr id="97" name="Beatrix.wav" descr=""/>
          <p:cNvPicPr/>
          <p:nvPr/>
        </p:nvPicPr>
        <p:blipFill>
          <a:blip r:embed="rId3"/>
          <a:stretch/>
        </p:blipFill>
        <p:spPr>
          <a:xfrm>
            <a:off x="7500960" y="635796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98" name="">
            <a:hlinkClick r:id="rId4" action="ppaction://hlinksldjump"/>
          </p:cNvPr>
          <p:cNvSpPr/>
          <p:nvPr/>
        </p:nvSpPr>
        <p:spPr>
          <a:xfrm>
            <a:off x="7596360" y="5877000"/>
            <a:ext cx="1295280" cy="792000"/>
          </a:xfrm>
          <a:prstGeom prst="rect">
            <a:avLst/>
          </a:prstGeom>
          <a:solidFill>
            <a:srgbClr val="ff0000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ru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2000"/>
                            </p:stCondLst>
                            <p:childTnLst>
                              <p:par>
                                <p:cTn id="14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7" dur="9442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Arial"/>
              </a:rPr>
              <a:t>WAAROM IK MIJN JOB BEN VERLORE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IK WAS EERST VORKLIFTCHAUFFEUR BIJ HET LEGER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" dur="75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1066680" y="457200"/>
            <a:ext cx="7772400" cy="582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1828800" y="2286000"/>
            <a:ext cx="64008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DAARNA WAS IK KRAANMAN OP WIELEN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07960" y="380880"/>
            <a:ext cx="8128080" cy="609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981080" y="2437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GEZIEN MIJN ERVARING BEN IK DAARNA IN EEN CONTAINERKRAAN GAAN WERKEN AAN DE DOK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395280" y="600120"/>
            <a:ext cx="8497800" cy="57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1143000" y="609480"/>
            <a:ext cx="7391520" cy="554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1981080" y="2362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ZE HEBBEN MIJ ZELFS GEVRAAGD OM KRAANMAN TE WORDEN IN DEN BOUW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1143000" y="990720"/>
            <a:ext cx="7696080" cy="498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1828800" y="2133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IK HAD ZELFS ZOVEEL ERVARING MET CONTAINERS DAT ZE MIJ GEVRAAGD HEBBEN ALS VERANTWOORDELIJKE VOOR HET LADEN VAN SCHEPEN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1371600" y="457200"/>
            <a:ext cx="7238880" cy="542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828800" y="2437920"/>
            <a:ext cx="6400800" cy="279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DAT VORIGE WAS ECHT EEN ONGELUKJE…. HET WAS MIJN EERSTE BOOTJE….AL SNEL KREEG IK DE KANS OM EEN GROTER BOOTJE TE MOGEN VULLEN…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1523880" y="838080"/>
            <a:ext cx="7086600" cy="531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1600200" y="2057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VERMITS ZE VONDEN DAT HET EIGENLIJK NIET ZO GOED LUKTE, HEBBEN ZE MIJ GEVRAAGD OM DAN DE BOOTJES TE LOODSEN…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1143000" y="838080"/>
            <a:ext cx="7696080" cy="513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828800" y="1828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NOG WAREN ZE NIET TEVREDEN…ZE HEBBEN MIJ TOEN BENENDENDEKS GESTUURD ALS MECANICIEN….DAAR ZAG IK PLOTS EEN STOPJE DAT IK DOMWEG HEB UITGETROKKEN…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2556000" y="476280"/>
            <a:ext cx="4370400" cy="58420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 txBox="1"/>
          <p:nvPr/>
        </p:nvSpPr>
        <p:spPr>
          <a:xfrm>
            <a:off x="3733920" y="0"/>
            <a:ext cx="5133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www.funnybytes.net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1523880" y="685800"/>
            <a:ext cx="7162920" cy="5372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1981080" y="1295280"/>
            <a:ext cx="6400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TOEN HEEFT MIJN BAAS MIJ GEVRAAGD OF IK ECHT « NIETS » IN MIJN BOVENKAMER HAD ZITTEN…UIT PURE COLERE HEB IK HEM DAN DEVOLGENDE HERSENSCAN LATEN ZIEN…HIJ BEGREEP DIRECT ALLES EN VERONTSCHULDIGDE ZICH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2133720" y="685800"/>
            <a:ext cx="5232240" cy="525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828800" y="1828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TOEN HEBBEN SPECIALISTEN MIJ GEZEGD : JE BENT BETER AF ALS AMBTENAAR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>
            <a:hlinkClick r:id="rId2" action="ppaction://hlinksldjump"/>
          </p:cNvPr>
          <p:cNvSpPr/>
          <p:nvPr/>
        </p:nvSpPr>
        <p:spPr>
          <a:xfrm>
            <a:off x="7596360" y="5877000"/>
            <a:ext cx="1295280" cy="792000"/>
          </a:xfrm>
          <a:prstGeom prst="rect">
            <a:avLst/>
          </a:prstGeom>
          <a:solidFill>
            <a:srgbClr val="ff0000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ru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838080" y="1828800"/>
            <a:ext cx="739152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00"/>
                </a:solidFill>
                <a:latin typeface="Albertus Medium"/>
              </a:rPr>
              <a:t>Ik ga op vakantie voor 1 ma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00"/>
                </a:solidFill>
                <a:latin typeface="Albertus Medium"/>
              </a:rPr>
              <a:t>Kun jij mijn planten water geven??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2556000" y="2708280"/>
            <a:ext cx="5184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600" spc="-1" strike="noStrike">
                <a:solidFill>
                  <a:srgbClr val="000000"/>
                </a:solidFill>
                <a:latin typeface="Comic Sans MS"/>
              </a:rPr>
              <a:t>Bedankt !!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>
            <a:hlinkClick r:id="rId2" action="ppaction://hlinksldjump"/>
          </p:cNvPr>
          <p:cNvSpPr/>
          <p:nvPr/>
        </p:nvSpPr>
        <p:spPr>
          <a:xfrm>
            <a:off x="7596360" y="5877000"/>
            <a:ext cx="1295280" cy="792000"/>
          </a:xfrm>
          <a:prstGeom prst="rect">
            <a:avLst/>
          </a:prstGeom>
          <a:solidFill>
            <a:srgbClr val="ff0000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ru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900000" y="1052640"/>
            <a:ext cx="7488360" cy="49244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 txBox="1"/>
          <p:nvPr/>
        </p:nvSpPr>
        <p:spPr>
          <a:xfrm>
            <a:off x="324000" y="5516640"/>
            <a:ext cx="5133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www.funnybytes.net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2411280" y="765000"/>
            <a:ext cx="4321440" cy="477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1547640" y="1052640"/>
            <a:ext cx="608508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2771640" y="620640"/>
            <a:ext cx="3240360" cy="55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2484360" y="692280"/>
            <a:ext cx="4210200" cy="5244840"/>
          </a:xfrm>
          <a:prstGeom prst="rect">
            <a:avLst/>
          </a:prstGeom>
          <a:ln w="0">
            <a:noFill/>
          </a:ln>
        </p:spPr>
      </p:pic>
      <p:sp>
        <p:nvSpPr>
          <p:cNvPr id="67" name="">
            <a:hlinkClick r:id="rId3" action="ppaction://hlinksldjump"/>
          </p:cNvPr>
          <p:cNvSpPr/>
          <p:nvPr/>
        </p:nvSpPr>
        <p:spPr>
          <a:xfrm>
            <a:off x="7596360" y="5877000"/>
            <a:ext cx="1295280" cy="792000"/>
          </a:xfrm>
          <a:prstGeom prst="rect">
            <a:avLst/>
          </a:prstGeom>
          <a:solidFill>
            <a:srgbClr val="ff0000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ru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2204640"/>
            <a:ext cx="8796240" cy="411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 boer maakt de volgende faktuur:</a:t>
            </a:r>
            <a:br>
              <a:rPr sz="1600"/>
            </a:br>
            <a:br>
              <a:rPr sz="2800"/>
            </a:b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Faktuur</a:t>
            </a:r>
            <a:br>
              <a:rPr sz="2800"/>
            </a:b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 koe (standaard versie)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          basisprij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2.400 €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2 kleuren (zwart/wit)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          plus-valu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  150 €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ederen uitvoering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  100 €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elkreservoir voor gebruik in winter en zomer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    50 €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4 kranen om te melke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          aan 12,50 €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    50 €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2 bumpers, uitvoering in hoorn           aan 17,50 €       35 €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liegenmepper, half-automatisch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    30 €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ookverdeler (BIO)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    60 €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aarzen voor alle terreinen en alle weer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                  100 €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msysteem 2 circuits (poten V+A)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  400 €</a:t>
            </a:r>
            <a:br>
              <a:rPr sz="1600"/>
            </a:b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klaxo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meerdere geluide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                  135 €</a:t>
            </a:r>
            <a:br>
              <a:rPr sz="1600"/>
            </a:b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ogen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ALOGEN            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  150 €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ebruik van meerdere veevoeders mogelijk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 u="sng">
                <a:solidFill>
                  <a:srgbClr val="000000"/>
                </a:solidFill>
                <a:uFillTx/>
                <a:latin typeface="Arial"/>
              </a:rPr>
              <a:t>1.250 €</a:t>
            </a:r>
            <a:br>
              <a:rPr sz="1600"/>
            </a:b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otale koe volgens aanbieding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4.910 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774680" y="342720"/>
            <a:ext cx="40323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en boer koopt een Mercedes van de nieuwe E-klasse, direct bij Daimler-Benz AG. Hij zit verveeld met de bijkomende kosten voor de uitrustingen die niet standaard zij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en beetje later koopt een directeur van Daimler-Benz AG bij die boer een koe voor zijn vrijetijdsboerderij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1116000" y="351000"/>
            <a:ext cx="1504800" cy="7887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E-Klasse Limousine"/>
          <p:cNvPicPr/>
          <p:nvPr/>
        </p:nvPicPr>
        <p:blipFill>
          <a:blip r:embed="rId3"/>
          <a:stretch/>
        </p:blipFill>
        <p:spPr>
          <a:xfrm>
            <a:off x="347760" y="1646280"/>
            <a:ext cx="4101840" cy="77004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6877080" y="6453360"/>
            <a:ext cx="958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877080" y="6507000"/>
            <a:ext cx="958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4"/>
          <a:stretch/>
        </p:blipFill>
        <p:spPr>
          <a:xfrm>
            <a:off x="6012000" y="2619360"/>
            <a:ext cx="1766880" cy="7048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5"/>
          <a:stretch/>
        </p:blipFill>
        <p:spPr>
          <a:xfrm>
            <a:off x="9550440" y="6629400"/>
            <a:ext cx="406440" cy="228600"/>
          </a:xfrm>
          <a:prstGeom prst="rect">
            <a:avLst/>
          </a:prstGeom>
          <a:ln w="0">
            <a:noFill/>
          </a:ln>
        </p:spPr>
      </p:pic>
      <p:sp>
        <p:nvSpPr>
          <p:cNvPr id="76" name="">
            <a:hlinkClick r:id="rId6" action="ppaction://hlinksldjump"/>
          </p:cNvPr>
          <p:cNvSpPr/>
          <p:nvPr/>
        </p:nvSpPr>
        <p:spPr>
          <a:xfrm>
            <a:off x="7596360" y="5877000"/>
            <a:ext cx="1295280" cy="792000"/>
          </a:xfrm>
          <a:prstGeom prst="rect">
            <a:avLst/>
          </a:prstGeom>
          <a:solidFill>
            <a:srgbClr val="ff0000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ru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15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3600"/>
                            </p:stCondLst>
                            <p:childTnLst>
                              <p:par>
                                <p:cTn id="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15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5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465"/>
                            </p:stCondLst>
                            <p:childTnLst>
                              <p:par>
                                <p:cTn id="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15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3345"/>
                            </p:stCondLst>
                            <p:childTnLst>
                              <p:par>
                                <p:cTn id="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3845"/>
                            </p:stCondLst>
                            <p:childTnLst>
                              <p:par>
                                <p:cTn id="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4345"/>
                            </p:stCondLst>
                            <p:childTnLst>
                              <p:par>
                                <p:cTn id="5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4845"/>
                            </p:stCondLst>
                            <p:childTnLst>
                              <p:par>
                                <p:cTn id="6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1" dur="1" fill="hold"/>
                                        <p:tgtEl>
                                          <p:spTgt spid="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5T18:55:52Z</dcterms:created>
  <dc:creator>www.free-powerpoints.goedbegin.be </dc:creator>
  <dc:description/>
  <dc:language>en-US</dc:language>
  <cp:lastModifiedBy>Smets</cp:lastModifiedBy>
  <dcterms:modified xsi:type="dcterms:W3CDTF">2009-03-13T06:00:02Z</dcterms:modified>
  <cp:revision>162</cp:revision>
  <dc:subject/>
  <dc:title>Dia 1</dc:title>
</cp:coreProperties>
</file>