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1B5C-4CBD-4BF2-9B2C-FB58DD364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06497-C1BD-4D38-912F-1834BF40E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6B72-F617-4A4C-B919-B99B0213A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29DAB-C4F6-47E1-A36D-8273089A80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E10DF-BBBE-4651-94DB-B74E291E26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B2C4-6C49-4B91-9130-169CEC2AE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8338-25C5-4F1E-ACB8-E33E76AA6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6362-D9BC-4981-999C-221BFD5BE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D9AF-FF64-431A-B69C-52C35EEEA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53678-1494-4C92-9D18-0A55925D7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D16E-6DF7-4DB6-B7FD-4FEF30E22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0EFE9-0583-4E3E-B869-12A799BFD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84760" y="6399360"/>
            <a:ext cx="268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65E8-6B56-42EC-B0B5-982D625935D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eucharistWallpaper1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shs_bibleCloseupPage-1.jp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36800" y="1752480"/>
            <a:ext cx="9280440" cy="1470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Edwardian Script ITC"/>
                <a:ea typeface="Edwardian Script ITC"/>
              </a:rPr>
              <a:t>Ancient Truths in the Modern Worl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4648320"/>
            <a:ext cx="928044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g Caslon"/>
                <a:ea typeface="Big Caslon"/>
              </a:rPr>
              <a:t>7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ig Caslon"/>
                <a:ea typeface="Big Caslo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Big Caslon"/>
                <a:ea typeface="Big Caslon"/>
              </a:rPr>
              <a:t> Annual NCCL Conference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ig Caslon"/>
                <a:ea typeface="Big Caslon"/>
              </a:rPr>
              <a:t>(Dallas Carter, MP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eucharistWallpaper10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shs_bibleCloseupPage-1.jpg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136800" y="1752480"/>
            <a:ext cx="9280440" cy="14702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Edwardian Script ITC"/>
                <a:ea typeface="Edwardian Script ITC"/>
              </a:rPr>
              <a:t>Ancient Truths in the Modern Worl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4648320"/>
            <a:ext cx="9280440" cy="1752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ig Caslon"/>
                <a:ea typeface="Big Caslon"/>
              </a:rPr>
              <a:t>7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Big Caslon"/>
                <a:ea typeface="Big Caslo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Big Caslon"/>
                <a:ea typeface="Big Caslon"/>
              </a:rPr>
              <a:t> Annual NCCL Conference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ig Caslon"/>
                <a:ea typeface="Big Caslon"/>
              </a:rPr>
              <a:t>(Dallas Carter, MP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/>
            </a:outerShdw>
          </a:effectLst>
        </p:spPr>
        <p:txBody>
          <a:bodyPr lIns="507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skerville Old Face"/>
                <a:ea typeface="Baskerville Old Face"/>
              </a:rPr>
              <a:t>Ancient Truths / Modern World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 Old Face"/>
                <a:ea typeface="Baskerville Old Face"/>
              </a:rPr>
              <a:t>CHRIST NEVER CHANGES (HEBREWS 13:8) AND SINCE CHRIST IS THE FULLNESS OF TRUTH, TRUTH NEVER CHANGES. WE KNOW THAT TRUTH SETS US FREE (JOHN 8:32) SO WE NATURALLY HAVE A DESIRE TO SEEK THAT TRU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images.jpeg"/>
          <p:cNvPicPr/>
          <p:nvPr/>
        </p:nvPicPr>
        <p:blipFill>
          <a:blip r:embed="rId1"/>
          <a:stretch/>
        </p:blipFill>
        <p:spPr>
          <a:xfrm>
            <a:off x="457200" y="4329000"/>
            <a:ext cx="213840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120px-Coat_of_arms_of_the_Holy_See.svg.png"/>
          <p:cNvPicPr/>
          <p:nvPr/>
        </p:nvPicPr>
        <p:blipFill>
          <a:blip r:embed="rId2"/>
          <a:stretch/>
        </p:blipFill>
        <p:spPr>
          <a:xfrm>
            <a:off x="5189400" y="3970440"/>
            <a:ext cx="1524240" cy="1701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Saint_Ambrose_of_Milan.jpg"/>
          <p:cNvPicPr/>
          <p:nvPr/>
        </p:nvPicPr>
        <p:blipFill>
          <a:blip r:embed="rId3"/>
          <a:stretch/>
        </p:blipFill>
        <p:spPr>
          <a:xfrm>
            <a:off x="7164360" y="4697280"/>
            <a:ext cx="1525680" cy="1949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baltimore.jpg"/>
          <p:cNvPicPr/>
          <p:nvPr/>
        </p:nvPicPr>
        <p:blipFill>
          <a:blip r:embed="rId4"/>
          <a:stretch/>
        </p:blipFill>
        <p:spPr>
          <a:xfrm>
            <a:off x="3071880" y="4764240"/>
            <a:ext cx="1811160" cy="181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acintosh HD:Users:dallascarter:Documents:Dallas' Documents:Ministry:NativeCatholic:NCCL 2012:Ancient Truths:Movie for presentation-1.mov" descr="/Users/dallascarter/Desktop/Intro to Online Learning.ppt_media/Movie for presentation-1.mov"/>
          <p:cNvPicPr/>
          <p:nvPr/>
        </p:nvPicPr>
        <p:blipFill>
          <a:blip r:embed="rId1"/>
          <a:stretch/>
        </p:blipFill>
        <p:spPr>
          <a:xfrm>
            <a:off x="114480" y="1168560"/>
            <a:ext cx="8918280" cy="5016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  <a:ea typeface="Papyrus"/>
              </a:rPr>
              <a:t>Show &amp; tell Time: Video Blogging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  <a:ea typeface="Papyrus"/>
              </a:rPr>
              <a:t>Show &amp; tell Time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4000" spc="-1" strike="noStrike">
                <a:solidFill>
                  <a:srgbClr val="000000"/>
                </a:solidFill>
                <a:latin typeface="Papyrus"/>
                <a:ea typeface="Papyrus"/>
              </a:rPr>
              <a:t> : Podcas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Screen Shot 2012-05-06 at 1.47.12 PM.png"/>
          <p:cNvPicPr/>
          <p:nvPr/>
        </p:nvPicPr>
        <p:blipFill>
          <a:blip r:embed="rId1"/>
          <a:stretch/>
        </p:blipFill>
        <p:spPr>
          <a:xfrm>
            <a:off x="380880" y="3657600"/>
            <a:ext cx="4002120" cy="1057320"/>
          </a:xfrm>
          <a:prstGeom prst="rect">
            <a:avLst/>
          </a:prstGeom>
          <a:ln w="0">
            <a:noFill/>
          </a:ln>
        </p:spPr>
      </p:pic>
      <p:pic>
        <p:nvPicPr>
          <p:cNvPr id="65" name="01 808Fit_Podcast_BizBag.mp3" descr=""/>
          <p:cNvPicPr/>
          <p:nvPr/>
        </p:nvPicPr>
        <p:blipFill>
          <a:blip r:embed="rId2"/>
          <a:stretch/>
        </p:blipFill>
        <p:spPr>
          <a:xfrm>
            <a:off x="1676520" y="4952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Screen Shot 2012-05-06 at 1.49.45 PM.png"/>
          <p:cNvPicPr/>
          <p:nvPr/>
        </p:nvPicPr>
        <p:blipFill>
          <a:blip r:embed="rId3"/>
          <a:stretch/>
        </p:blipFill>
        <p:spPr>
          <a:xfrm>
            <a:off x="4724280" y="4038480"/>
            <a:ext cx="3695760" cy="698760"/>
          </a:xfrm>
          <a:prstGeom prst="rect">
            <a:avLst/>
          </a:prstGeom>
          <a:ln w="0">
            <a:noFill/>
          </a:ln>
        </p:spPr>
      </p:pic>
      <p:pic>
        <p:nvPicPr>
          <p:cNvPr id="67" name="Mary Most Holy OLPH (NativeCatholic).mp3" descr=""/>
          <p:cNvPicPr/>
          <p:nvPr/>
        </p:nvPicPr>
        <p:blipFill>
          <a:blip r:embed="rId4"/>
          <a:stretch/>
        </p:blipFill>
        <p:spPr>
          <a:xfrm>
            <a:off x="6324480" y="4876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podcast.png"/>
          <p:cNvPicPr/>
          <p:nvPr/>
        </p:nvPicPr>
        <p:blipFill>
          <a:blip r:embed="rId5"/>
          <a:stretch/>
        </p:blipFill>
        <p:spPr>
          <a:xfrm>
            <a:off x="1066680" y="990720"/>
            <a:ext cx="2667240" cy="2419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nano-group.jpg"/>
          <p:cNvPicPr/>
          <p:nvPr/>
        </p:nvPicPr>
        <p:blipFill>
          <a:blip r:embed="rId6"/>
          <a:stretch/>
        </p:blipFill>
        <p:spPr>
          <a:xfrm>
            <a:off x="4495680" y="1523880"/>
            <a:ext cx="4094280" cy="1876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939937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694152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bd5"/>
            </a:gs>
            <a:gs pos="100000">
              <a:srgbClr val="ffefd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Content Placeholder 4" descr="554393_10150766198654209_533659208_9840885_1369836026_n.jpg"/>
          <p:cNvPicPr/>
          <p:nvPr/>
        </p:nvPicPr>
        <p:blipFill>
          <a:blip r:embed="rId1"/>
          <a:srcRect l="-6819" t="0" r="-681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554393_10150766198654209_533659208_9840885_1369836026_n.jpg"/>
          <p:cNvPicPr/>
          <p:nvPr/>
        </p:nvPicPr>
        <p:blipFill>
          <a:blip r:embed="rId3"/>
          <a:stretch/>
        </p:blipFill>
        <p:spPr>
          <a:xfrm>
            <a:off x="228600" y="838080"/>
            <a:ext cx="8686800" cy="54295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00:03:49Z</dcterms:created>
  <dc:creator>Suzeth Carreon;Brandon Amano</dc:creator>
  <dc:description/>
  <cp:keywords/>
  <dc:language>en-US</dc:language>
  <cp:lastModifiedBy>Dallas  Carter</cp:lastModifiedBy>
  <dcterms:modified xsi:type="dcterms:W3CDTF">2012-05-08T01:20:38Z</dcterms:modified>
  <cp:revision>6</cp:revision>
  <dc:subject/>
  <dc:title>Catholic Morality</dc:title>
</cp:coreProperties>
</file>