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2952-A2F6-4B64-B410-8C0F14515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3234-7E6A-48E9-BC65-8AADCAE78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9C29-5185-40EA-A130-2669B4ACF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8BE2-FA9B-4972-8025-743039EC7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A53A-B3DC-46ED-AD8E-2F4064D3F8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4C52-DD15-4C2C-95D1-6E8429BDD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C058-5F0B-4A85-A6BB-667EC1A50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F0DD-DC76-4EDD-826D-7FE135D58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A79D-E924-40D1-8780-2F03EBE6D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10CD-7DDB-4B9C-A1B2-6BA631BD7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EFBB-535B-4CEE-A46F-90B357F97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88CB-3B1E-4C0F-8D5F-5E64131F0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476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5232-E2F3-44AD-82A5-0E8A9863AC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eucharistWallpaper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shs_bibleCloseupPage-1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36800" y="1752480"/>
            <a:ext cx="9280440" cy="1470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dwardian Script ITC"/>
                <a:ea typeface="Edwardian Script ITC"/>
              </a:rPr>
              <a:t>Ancient Truths in the Modern 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648320"/>
            <a:ext cx="928044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7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ig Caslon"/>
                <a:ea typeface="Big Caslo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 Annual NCCL Conference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(Dallas Carter, MP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eucharistWallpaper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shs_bibleCloseupPage-1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36800" y="1752480"/>
            <a:ext cx="9280440" cy="1470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dwardian Script ITC"/>
                <a:ea typeface="Edwardian Script ITC"/>
              </a:rPr>
              <a:t>Ancient Truths in the Modern 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4648320"/>
            <a:ext cx="928044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7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ig Caslon"/>
                <a:ea typeface="Big Caslo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 Annual NCCL Conference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(Dallas Carter, MP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skerville Old Face"/>
                <a:ea typeface="Baskerville Old Face"/>
              </a:rPr>
              <a:t>Ancient Truths / Modern World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  <a:ea typeface="Baskerville Old Face"/>
              </a:rPr>
              <a:t>CHRIST NEVER CHANGES (HEBREWS 13:8) AND SINCE CHRIST IS THE FULLNESS OF TRUTH, TRUTH NEVER CHANGES. WE KNOW THAT TRUTH SETS US FREE (JOHN 8:32) SO WE NATURALLY HAVE A DESIRE TO SEEK THAT TRU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images.jpeg"/>
          <p:cNvPicPr/>
          <p:nvPr/>
        </p:nvPicPr>
        <p:blipFill>
          <a:blip r:embed="rId1"/>
          <a:stretch/>
        </p:blipFill>
        <p:spPr>
          <a:xfrm>
            <a:off x="457200" y="4329000"/>
            <a:ext cx="213840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120px-Coat_of_arms_of_the_Holy_See.svg.png"/>
          <p:cNvPicPr/>
          <p:nvPr/>
        </p:nvPicPr>
        <p:blipFill>
          <a:blip r:embed="rId2"/>
          <a:stretch/>
        </p:blipFill>
        <p:spPr>
          <a:xfrm>
            <a:off x="5189400" y="3970440"/>
            <a:ext cx="1524240" cy="170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Saint_Ambrose_of_Milan.jpg"/>
          <p:cNvPicPr/>
          <p:nvPr/>
        </p:nvPicPr>
        <p:blipFill>
          <a:blip r:embed="rId3"/>
          <a:stretch/>
        </p:blipFill>
        <p:spPr>
          <a:xfrm>
            <a:off x="7164360" y="4697280"/>
            <a:ext cx="1525680" cy="1949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baltimore.jpg"/>
          <p:cNvPicPr/>
          <p:nvPr/>
        </p:nvPicPr>
        <p:blipFill>
          <a:blip r:embed="rId4"/>
          <a:stretch/>
        </p:blipFill>
        <p:spPr>
          <a:xfrm>
            <a:off x="3071880" y="4764240"/>
            <a:ext cx="181116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acintosh HD:Users:dallascarter:Documents:Dallas' Documents:Ministry:NativeCatholic:NCCL 2012:Ancient Truths:Movie for presentation-1.mov" descr="/Users/dallascarter/Desktop/Intro to Online Learning.ppt_media/Movie for presentation-1.mov"/>
          <p:cNvPicPr/>
          <p:nvPr/>
        </p:nvPicPr>
        <p:blipFill>
          <a:blip r:embed="rId1"/>
          <a:stretch/>
        </p:blipFill>
        <p:spPr>
          <a:xfrm>
            <a:off x="114480" y="1168560"/>
            <a:ext cx="8918280" cy="5016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  <a:ea typeface="Papyrus"/>
              </a:rPr>
              <a:t>Show &amp; tell Time: Video Blogging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  <a:ea typeface="Papyrus"/>
              </a:rPr>
              <a:t>Show &amp; tell Time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  <a:ea typeface="Papyrus"/>
              </a:rPr>
              <a:t> : Podcas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Screen Shot 2012-05-06 at 1.47.12 PM.png"/>
          <p:cNvPicPr/>
          <p:nvPr/>
        </p:nvPicPr>
        <p:blipFill>
          <a:blip r:embed="rId1"/>
          <a:stretch/>
        </p:blipFill>
        <p:spPr>
          <a:xfrm>
            <a:off x="380880" y="3657600"/>
            <a:ext cx="400212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01 808Fit_Podcast_BizBag.mp3" descr=""/>
          <p:cNvPicPr/>
          <p:nvPr/>
        </p:nvPicPr>
        <p:blipFill>
          <a:blip r:embed="rId2"/>
          <a:stretch/>
        </p:blipFill>
        <p:spPr>
          <a:xfrm>
            <a:off x="167652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Screen Shot 2012-05-06 at 1.49.45 PM.png"/>
          <p:cNvPicPr/>
          <p:nvPr/>
        </p:nvPicPr>
        <p:blipFill>
          <a:blip r:embed="rId3"/>
          <a:stretch/>
        </p:blipFill>
        <p:spPr>
          <a:xfrm>
            <a:off x="4724280" y="4038480"/>
            <a:ext cx="369576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Mary Most Holy OLPH (NativeCatholic).mp3" descr=""/>
          <p:cNvPicPr/>
          <p:nvPr/>
        </p:nvPicPr>
        <p:blipFill>
          <a:blip r:embed="rId4"/>
          <a:stretch/>
        </p:blipFill>
        <p:spPr>
          <a:xfrm>
            <a:off x="6324480" y="4876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odcast.png"/>
          <p:cNvPicPr/>
          <p:nvPr/>
        </p:nvPicPr>
        <p:blipFill>
          <a:blip r:embed="rId5"/>
          <a:stretch/>
        </p:blipFill>
        <p:spPr>
          <a:xfrm>
            <a:off x="1066680" y="990720"/>
            <a:ext cx="2667240" cy="241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ano-group.jpg"/>
          <p:cNvPicPr/>
          <p:nvPr/>
        </p:nvPicPr>
        <p:blipFill>
          <a:blip r:embed="rId6"/>
          <a:stretch/>
        </p:blipFill>
        <p:spPr>
          <a:xfrm>
            <a:off x="4495680" y="1523880"/>
            <a:ext cx="4094280" cy="18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3993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694152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4" descr="554393_10150766198654209_533659208_9840885_1369836026_n.jpg"/>
          <p:cNvPicPr/>
          <p:nvPr/>
        </p:nvPicPr>
        <p:blipFill>
          <a:blip r:embed="rId1"/>
          <a:srcRect l="-6819" t="0" r="-681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554393_10150766198654209_533659208_9840885_1369836026_n.jpg"/>
          <p:cNvPicPr/>
          <p:nvPr/>
        </p:nvPicPr>
        <p:blipFill>
          <a:blip r:embed="rId3"/>
          <a:stretch/>
        </p:blipFill>
        <p:spPr>
          <a:xfrm>
            <a:off x="228600" y="838080"/>
            <a:ext cx="8686800" cy="54295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0:03:49Z</dcterms:created>
  <dc:creator>Suzeth Carreon;Brandon Amano</dc:creator>
  <dc:description/>
  <cp:keywords/>
  <dc:language>en-US</dc:language>
  <cp:lastModifiedBy>Dallas  Carter</cp:lastModifiedBy>
  <dcterms:modified xsi:type="dcterms:W3CDTF">2012-05-08T01:20:38Z</dcterms:modified>
  <cp:revision>6</cp:revision>
  <dc:subject/>
  <dc:title>Catholic Morality</dc:title>
</cp:coreProperties>
</file>