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080625" cy="7559675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858000" cy="97106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0640"/>
              <a:gd name="textAreaBottom" fmla="*/ 9710280 h 9710640"/>
            </a:gdLst>
            <a:ahLst/>
            <a:rect l="textAreaLeft" t="textAreaTop" r="textAreaRight" b="textAreaBottom"/>
            <a:pathLst>
              <a:path w="21600" h="30584">
                <a:moveTo>
                  <a:pt x="4" y="0"/>
                </a:moveTo>
                <a:arcTo wR="4" hR="4" stAng="16200000" swAng="-5400000"/>
                <a:lnTo>
                  <a:pt x="0" y="30580"/>
                </a:lnTo>
                <a:arcTo wR="4" hR="4" stAng="10800000" swAng="-5400000"/>
                <a:lnTo>
                  <a:pt x="21596" y="3058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858000" cy="97106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0640"/>
              <a:gd name="textAreaBottom" fmla="*/ 9710280 h 9710640"/>
            </a:gdLst>
            <a:ahLst/>
            <a:rect l="textAreaLeft" t="textAreaTop" r="textAreaRight" b="textAreaBottom"/>
            <a:pathLst>
              <a:path w="21600" h="30584">
                <a:moveTo>
                  <a:pt x="4" y="0"/>
                </a:moveTo>
                <a:arcTo wR="4" hR="4" stAng="16200000" swAng="-5400000"/>
                <a:lnTo>
                  <a:pt x="0" y="30580"/>
                </a:lnTo>
                <a:arcTo wR="4" hR="4" stAng="10800000" swAng="-5400000"/>
                <a:lnTo>
                  <a:pt x="21596" y="3058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858000" cy="97106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0640"/>
              <a:gd name="textAreaBottom" fmla="*/ 9710280 h 9710640"/>
            </a:gdLst>
            <a:ahLst/>
            <a:rect l="textAreaLeft" t="textAreaTop" r="textAreaRight" b="textAreaBottom"/>
            <a:pathLst>
              <a:path w="21600" h="30584">
                <a:moveTo>
                  <a:pt x="4" y="0"/>
                </a:moveTo>
                <a:arcTo wR="4" hR="4" stAng="16200000" swAng="-5400000"/>
                <a:lnTo>
                  <a:pt x="0" y="30580"/>
                </a:lnTo>
                <a:arcTo wR="4" hR="4" stAng="10800000" swAng="-5400000"/>
                <a:lnTo>
                  <a:pt x="21596" y="3058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89080" y="933120"/>
            <a:ext cx="4471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2440" indent="-35244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061640" y="4619160"/>
            <a:ext cx="4732200" cy="37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1190520" y="933480"/>
            <a:ext cx="4476960" cy="336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1062000" y="4619520"/>
            <a:ext cx="4734000" cy="37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1189080" y="933480"/>
            <a:ext cx="4475160" cy="335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1062000" y="4619520"/>
            <a:ext cx="4734000" cy="37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1189080" y="933480"/>
            <a:ext cx="4475160" cy="335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1062000" y="4619520"/>
            <a:ext cx="4734000" cy="37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1190520" y="933480"/>
            <a:ext cx="4475160" cy="335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1062000" y="4619520"/>
            <a:ext cx="4734000" cy="37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1189080" y="933480"/>
            <a:ext cx="4475160" cy="335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1062000" y="4619520"/>
            <a:ext cx="4734000" cy="37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1190520" y="933480"/>
            <a:ext cx="4475160" cy="335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1062000" y="4619520"/>
            <a:ext cx="4734000" cy="37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1190520" y="933480"/>
            <a:ext cx="4473720" cy="33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1062000" y="4619520"/>
            <a:ext cx="4734000" cy="37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1190520" y="933480"/>
            <a:ext cx="4476960" cy="336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1062000" y="4619520"/>
            <a:ext cx="4734000" cy="37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1190520" y="933480"/>
            <a:ext cx="4476960" cy="336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1062000" y="4619520"/>
            <a:ext cx="4734000" cy="37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1190520" y="933480"/>
            <a:ext cx="4476960" cy="336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1062000" y="4619520"/>
            <a:ext cx="4734000" cy="37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1189080" y="933480"/>
            <a:ext cx="4475160" cy="335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1062000" y="4619520"/>
            <a:ext cx="4734000" cy="37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1190520" y="933480"/>
            <a:ext cx="4476960" cy="336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1062000" y="4619520"/>
            <a:ext cx="4734000" cy="37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1189080" y="933480"/>
            <a:ext cx="4475160" cy="335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062000" y="4619520"/>
            <a:ext cx="4734000" cy="37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1189080" y="933480"/>
            <a:ext cx="4475160" cy="335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1062000" y="4619520"/>
            <a:ext cx="4734000" cy="37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1190520" y="933480"/>
            <a:ext cx="4475160" cy="335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1062000" y="4619520"/>
            <a:ext cx="4734000" cy="37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6552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0916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188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6552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0916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1240" y="699840"/>
            <a:ext cx="8599680" cy="58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8408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731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36044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64952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649520" indent="-428760">
              <a:lnSpc>
                <a:spcPct val="93000"/>
              </a:lnSpc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649520" indent="-428760">
              <a:lnSpc>
                <a:spcPct val="93000"/>
              </a:lnSpc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lnSpc>
                <a:spcPct val="93000"/>
              </a:lnSpc>
              <a:buNone/>
              <a:tabLst>
                <a:tab algn="l" pos="0"/>
                <a:tab algn="l" pos="20952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Psikologi sosial 1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284c"/>
                </a:solidFill>
                <a:latin typeface="Arial"/>
              </a:rPr>
              <a:t>Pertemuan 1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0880" y="744120"/>
            <a:ext cx="8602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93000"/>
              </a:lnSpc>
              <a:buNone/>
              <a:tabLst>
                <a:tab algn="l" pos="0"/>
                <a:tab algn="l" pos="35244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Faktor2 yang berpengaruh 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841392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Perilaku dan proses mental dipengaruhi faktor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8408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Kognitif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10731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Contoh reaksi kita akan berbeda bila teman dtg terlambat dg alasan lupa dan baru ingat beberpa menit yg lalu dg bila dikatakan bwh ada kecelakaan besar yg membuat macet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0731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amun kita berfikir lagi apakah teman kita sekali itu terlambat ataukah berkali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8408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Lingkunga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10731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Apakah kt mudah marah bila lingk panas &amp; lembab dibanding sejuk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744120"/>
            <a:ext cx="8602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93000"/>
              </a:lnSpc>
              <a:buNone/>
              <a:tabLst>
                <a:tab algn="l" pos="0"/>
                <a:tab algn="l" pos="35244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...lanjutan fakt2 yg berpengaruh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841392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Buday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8408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Dulu cantik : padat berisi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8408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Sekarang cantik : kurus, putih cantik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8408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Ada pergeseran buday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49680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Biolog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8408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Apakah pl sos dipengaruhi proses biologis dan genetik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8408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ya. contohnya dlam memilih pasangan, misal dengan mimilih yang cantik dg harapan akan dapat memperbaiki keturuna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744480"/>
            <a:ext cx="86058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93000"/>
              </a:lnSpc>
              <a:buNone/>
              <a:tabLst>
                <a:tab algn="l" pos="0"/>
                <a:tab algn="l" pos="35244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Hubungan psi sos dg ilmu-2 lain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400"/>
            <a:ext cx="841716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Psi sos dan sosiologi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8408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sosiologi mempelajari masyarakat terkecil hingga masyarakat luas. kelompok mns sbg satu kesatuan (mis, macam2 kelompok, perubahan2nya, macam2 pimpinannya dll). → Jadi disini tdk dibicarakan indvdu yg satu dg yg lain tapi kelompok sbg satu kesatuan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8408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psikologi sosial pada individu, yaitu bagaimana sebuah kelompok mempengaruhi individu &amp; sebaliknya bagaimana individu mempengaruhi kelompok sosia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0880" y="744120"/>
            <a:ext cx="8602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93000"/>
              </a:lnSpc>
              <a:buNone/>
              <a:tabLst>
                <a:tab algn="l" pos="0"/>
                <a:tab algn="l" pos="35244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contoh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841392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opik tindak kekerasa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6800" indent="0">
              <a:lnSpc>
                <a:spcPct val="93000"/>
              </a:lnSpc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8408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Psi sosial: kenpa org berperilakul spt itu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84080" indent="0">
              <a:lnSpc>
                <a:spcPct val="93000"/>
              </a:lnSpc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8408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Sosiologi</a:t>
            </a: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: melihat perbandingan angka kekerasan antara berbabagai lapisan masyarkt (misal perbandingan kelmpk dg pendapatan finansial yg rendah dan tinggi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0880" y="744480"/>
            <a:ext cx="86058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93000"/>
              </a:lnSpc>
              <a:buNone/>
              <a:tabLst>
                <a:tab algn="l" pos="0"/>
                <a:tab algn="l" pos="35244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..lanjutan hub psi sos dg ilmu-2 lain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21880" y="1722240"/>
            <a:ext cx="8417160" cy="50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Psikologi Sosial &amp; Psikologi Kepribadia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6800" indent="0">
              <a:lnSpc>
                <a:spcPct val="93000"/>
              </a:lnSpc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lvl="2" marL="10731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Perbedaan keduanya yaitu psikologi kepribadian memfokuskan pada fungsi internal pribadi &amp; perbedaan tiap individu. Misalnya: mengapa beberapa individu lebih agresif daripada yang lain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073160" indent="0">
              <a:lnSpc>
                <a:spcPct val="93000"/>
              </a:lnSpc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lvl="2" marL="10731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psikologi sosial fokus pada perilaku manusia sebagai bagian dari dunia sosialnya, yaitu bagaimana orang memandang &amp; mempengaruhi orang lain. Psikologi sosial mempelajari mengapa situasi sosial dapat berpengaruh pada individu khususnya pada perilaku yang mengarah ke tindakan baik atau buruk, berkompromi atau bebas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0880" y="744480"/>
            <a:ext cx="8604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93000"/>
              </a:lnSpc>
              <a:buNone/>
              <a:tabLst>
                <a:tab algn="l" pos="0"/>
                <a:tab algn="l" pos="35244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...lanjutan hub psi sos dg ilmu-2 lain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841536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Psi umum dan psi s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731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Psi umum : gejala jiwa manusia, seperti perasaan, kemauan berfikir yang semuanya terlepas dari alam sekitar. Jadi seolah-2 mns mempunyai kemampuan-2 yg lepas dari alam sekita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10731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Psi sos : manusia sebagai anggota masyarakat. Jadi meninjau interaksi mns dlm kel, bgm hub indv yg satu dg yg lain dlm kelnya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lnSpc>
                <a:spcPct val="93000"/>
              </a:lnSpc>
              <a:buNone/>
              <a:tabLst>
                <a:tab algn="l" pos="0"/>
                <a:tab algn="l" pos="20952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Bidang pekerjaan psi sosial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93000"/>
              </a:lnSpc>
              <a:spcBef>
                <a:spcPts val="901"/>
              </a:spcBef>
              <a:buClr>
                <a:srgbClr val="ffff00"/>
              </a:buClr>
              <a:buSzPct val="85000"/>
              <a:buFont typeface="Wingdings" charset="2"/>
              <a:buChar char=""/>
              <a:tabLst>
                <a:tab algn="l" pos="749160"/>
                <a:tab algn="l" pos="1206360"/>
                <a:tab algn="l" pos="1663560"/>
                <a:tab algn="l" pos="2120760"/>
                <a:tab algn="l" pos="2577960"/>
                <a:tab algn="l" pos="3035160"/>
                <a:tab algn="l" pos="3492360"/>
                <a:tab algn="l" pos="3949560"/>
                <a:tab algn="l" pos="4406760"/>
                <a:tab algn="l" pos="4863960"/>
                <a:tab algn="l" pos="5321160"/>
                <a:tab algn="l" pos="5778360"/>
                <a:tab algn="l" pos="6235560"/>
                <a:tab algn="l" pos="6692760"/>
                <a:tab algn="l" pos="7149960"/>
                <a:tab algn="l" pos="7607160"/>
                <a:tab algn="l" pos="8064360"/>
                <a:tab algn="l" pos="8521560"/>
                <a:tab algn="l" pos="8978760"/>
                <a:tab algn="l" pos="94359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Book Antiqua"/>
              </a:rPr>
              <a:t>Mengajar dan melakukan peneletian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799"/>
              </a:spcBef>
              <a:buClr>
                <a:srgbClr val="ffff00"/>
              </a:buClr>
              <a:buSzPct val="85000"/>
              <a:buFont typeface="Wingdings" charset="2"/>
              <a:buChar char=""/>
              <a:tabLst>
                <a:tab algn="l" pos="749160"/>
                <a:tab algn="l" pos="1206360"/>
                <a:tab algn="l" pos="1663560"/>
                <a:tab algn="l" pos="2120760"/>
                <a:tab algn="l" pos="2577960"/>
                <a:tab algn="l" pos="3035160"/>
                <a:tab algn="l" pos="3492360"/>
                <a:tab algn="l" pos="3949560"/>
                <a:tab algn="l" pos="4406760"/>
                <a:tab algn="l" pos="4863960"/>
                <a:tab algn="l" pos="5321160"/>
                <a:tab algn="l" pos="5778360"/>
                <a:tab algn="l" pos="6235560"/>
                <a:tab algn="l" pos="6692760"/>
                <a:tab algn="l" pos="7149960"/>
                <a:tab algn="l" pos="7607160"/>
                <a:tab algn="l" pos="8064360"/>
                <a:tab algn="l" pos="8521560"/>
                <a:tab algn="l" pos="8978760"/>
                <a:tab algn="l" pos="9435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Book Antiqua"/>
              </a:rPr>
              <a:t>Examples: business, marketing, communications, sociology, law,  sciences, and medicin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78912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93000"/>
              </a:lnSpc>
              <a:buNone/>
              <a:tabLst>
                <a:tab algn="l" pos="0"/>
                <a:tab algn="l" pos="35244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Bid pekerjaan psi sosial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Banyak juga yang bekerja sebagai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731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Big busine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0731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Polling organiz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0731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Consumer report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0731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Software compani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0731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Marketing research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0731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advertis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lnSpc>
                <a:spcPct val="93000"/>
              </a:lnSpc>
              <a:buNone/>
              <a:tabLst>
                <a:tab algn="l" pos="0"/>
                <a:tab algn="l" pos="20952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Bidang pekerjaan psi sosial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93000"/>
              </a:lnSpc>
              <a:spcBef>
                <a:spcPts val="1001"/>
              </a:spcBef>
              <a:buClr>
                <a:srgbClr val="ffff00"/>
              </a:buClr>
              <a:buSzPct val="85000"/>
              <a:buFont typeface="Wingdings" charset="2"/>
              <a:buChar char=""/>
              <a:tabLst>
                <a:tab algn="l" pos="749160"/>
                <a:tab algn="l" pos="1206360"/>
                <a:tab algn="l" pos="1663560"/>
                <a:tab algn="l" pos="2120760"/>
                <a:tab algn="l" pos="2577960"/>
                <a:tab algn="l" pos="3035160"/>
                <a:tab algn="l" pos="3492360"/>
                <a:tab algn="l" pos="3949560"/>
                <a:tab algn="l" pos="4406760"/>
                <a:tab algn="l" pos="4863960"/>
                <a:tab algn="l" pos="5321160"/>
                <a:tab algn="l" pos="5778360"/>
                <a:tab algn="l" pos="6235560"/>
                <a:tab algn="l" pos="6692760"/>
                <a:tab algn="l" pos="7149960"/>
                <a:tab algn="l" pos="7607160"/>
                <a:tab algn="l" pos="8064360"/>
                <a:tab algn="l" pos="8521560"/>
                <a:tab algn="l" pos="8978760"/>
                <a:tab algn="l" pos="943596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Book Antiqua"/>
              </a:rPr>
              <a:t>Social Psychologist in Rehabilitation Technology 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901"/>
              </a:spcBef>
              <a:buClr>
                <a:srgbClr val="ffff00"/>
              </a:buClr>
              <a:buSzPct val="85000"/>
              <a:buFont typeface="Wingdings" charset="2"/>
              <a:buChar char=""/>
              <a:tabLst>
                <a:tab algn="l" pos="749160"/>
                <a:tab algn="l" pos="1206360"/>
                <a:tab algn="l" pos="1663560"/>
                <a:tab algn="l" pos="2120760"/>
                <a:tab algn="l" pos="2577960"/>
                <a:tab algn="l" pos="3035160"/>
                <a:tab algn="l" pos="3492360"/>
                <a:tab algn="l" pos="3949560"/>
                <a:tab algn="l" pos="4406760"/>
                <a:tab algn="l" pos="4863960"/>
                <a:tab algn="l" pos="5321160"/>
                <a:tab algn="l" pos="5778360"/>
                <a:tab algn="l" pos="6235560"/>
                <a:tab algn="l" pos="6692760"/>
                <a:tab algn="l" pos="7149960"/>
                <a:tab algn="l" pos="7607160"/>
                <a:tab algn="l" pos="8064360"/>
                <a:tab algn="l" pos="8521560"/>
                <a:tab algn="l" pos="8978760"/>
                <a:tab algn="l" pos="94359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Book Antiqua"/>
              </a:rPr>
              <a:t>David Boninger, Three Rivers 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ffff00"/>
              </a:buClr>
              <a:buSzPct val="85000"/>
              <a:buFont typeface="Wingdings" charset="2"/>
              <a:buChar char=""/>
              <a:tabLst>
                <a:tab algn="l" pos="749160"/>
                <a:tab algn="l" pos="1206360"/>
                <a:tab algn="l" pos="1663560"/>
                <a:tab algn="l" pos="2120760"/>
                <a:tab algn="l" pos="2577960"/>
                <a:tab algn="l" pos="3035160"/>
                <a:tab algn="l" pos="3492360"/>
                <a:tab algn="l" pos="3949560"/>
                <a:tab algn="l" pos="4406760"/>
                <a:tab algn="l" pos="4863960"/>
                <a:tab algn="l" pos="5321160"/>
                <a:tab algn="l" pos="5778360"/>
                <a:tab algn="l" pos="6235560"/>
                <a:tab algn="l" pos="6692760"/>
                <a:tab algn="l" pos="7149960"/>
                <a:tab algn="l" pos="7607160"/>
                <a:tab algn="l" pos="8064360"/>
                <a:tab algn="l" pos="8521560"/>
                <a:tab algn="l" pos="8978760"/>
                <a:tab algn="l" pos="9435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Book Antiqua"/>
              </a:rPr>
              <a:t>Develops and markets products that enhance the mobility and independence of people with disabiliti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749160"/>
                <a:tab algn="l" pos="1206360"/>
                <a:tab algn="l" pos="1663560"/>
                <a:tab algn="l" pos="2120760"/>
                <a:tab algn="l" pos="2577960"/>
                <a:tab algn="l" pos="3035160"/>
                <a:tab algn="l" pos="3492360"/>
                <a:tab algn="l" pos="3949560"/>
                <a:tab algn="l" pos="4406760"/>
                <a:tab algn="l" pos="4863960"/>
                <a:tab algn="l" pos="5321160"/>
                <a:tab algn="l" pos="5778360"/>
                <a:tab algn="l" pos="6235560"/>
                <a:tab algn="l" pos="6692760"/>
                <a:tab algn="l" pos="7149960"/>
                <a:tab algn="l" pos="7607160"/>
                <a:tab algn="l" pos="8064360"/>
                <a:tab algn="l" pos="8521560"/>
                <a:tab algn="l" pos="8978760"/>
                <a:tab algn="l" pos="9435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744120"/>
            <a:ext cx="8602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93000"/>
              </a:lnSpc>
              <a:buNone/>
              <a:tabLst>
                <a:tab algn="l" pos="0"/>
                <a:tab algn="l" pos="35244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Psikologi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22240" y="2226960"/>
            <a:ext cx="841392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0" name="Oval 3"/>
          <p:cNvSpPr/>
          <p:nvPr/>
        </p:nvSpPr>
        <p:spPr>
          <a:xfrm>
            <a:off x="3429000" y="2286000"/>
            <a:ext cx="29718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Yun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Oval 4"/>
          <p:cNvSpPr/>
          <p:nvPr/>
        </p:nvSpPr>
        <p:spPr>
          <a:xfrm>
            <a:off x="685800" y="4343400"/>
            <a:ext cx="2971800" cy="1600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sy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Oval 5"/>
          <p:cNvSpPr/>
          <p:nvPr/>
        </p:nvSpPr>
        <p:spPr>
          <a:xfrm>
            <a:off x="5486400" y="4572000"/>
            <a:ext cx="342900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Log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 flipH="1">
            <a:off x="2739960" y="3200400"/>
            <a:ext cx="1835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7"/>
          <p:cNvSpPr/>
          <p:nvPr/>
        </p:nvSpPr>
        <p:spPr>
          <a:xfrm>
            <a:off x="5029200" y="320040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112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>
              <a:lnSpc>
                <a:spcPct val="93000"/>
              </a:lnSpc>
              <a:buNone/>
              <a:tabLst>
                <a:tab algn="l" pos="0"/>
                <a:tab algn="l" pos="35244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Psyche: Jiwa 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6600" y="1417320"/>
            <a:ext cx="8412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0">
              <a:lnSpc>
                <a:spcPct val="83000"/>
              </a:lnSpc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333333"/>
              </a:solidFill>
              <a:latin typeface="Arial"/>
            </a:endParaRPr>
          </a:p>
          <a:p>
            <a:pPr lvl="1" marL="784080" indent="-426960">
              <a:lnSpc>
                <a:spcPct val="8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Ruh, nyawa atau kekuatan yang menjadi penggerak manusia. Bila jiwa tdk ada, maka mns tdk akan hidp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84080" indent="-426960">
              <a:lnSpc>
                <a:spcPct val="8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Semangat, atau jiwa perasaan. Misalnya : berjiwa besar, berjiwa lemah dsb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84080" indent="0">
              <a:lnSpc>
                <a:spcPct val="83000"/>
              </a:lnSpc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84080" indent="0">
              <a:lnSpc>
                <a:spcPct val="83000"/>
              </a:lnSpc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Logos: Ilmu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84080" indent="0">
              <a:lnSpc>
                <a:spcPct val="83000"/>
              </a:lnSpc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84080" indent="0">
              <a:lnSpc>
                <a:spcPct val="83000"/>
              </a:lnSpc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Psikologi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84080" indent="0">
              <a:lnSpc>
                <a:spcPct val="83000"/>
              </a:lnSpc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333333"/>
              </a:solidFill>
              <a:latin typeface="Arial"/>
            </a:endParaRPr>
          </a:p>
          <a:p>
            <a:pPr lvl="1" marL="784080" indent="0">
              <a:lnSpc>
                <a:spcPct val="83000"/>
              </a:lnSpc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Arti kata: ilmu yang mempelajari jiwa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84080" indent="0">
              <a:lnSpc>
                <a:spcPct val="83000"/>
              </a:lnSpc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84080" indent="0">
              <a:lnSpc>
                <a:spcPct val="83000"/>
              </a:lnSpc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Definisi : ilmu yang mempelajari proses mental </a:t>
            </a: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dan perilaku manusia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93000"/>
              </a:lnSpc>
              <a:buNone/>
              <a:tabLst>
                <a:tab algn="l" pos="0"/>
                <a:tab algn="l" pos="35244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Psikologi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1722600"/>
            <a:ext cx="8412120" cy="51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Wundt : Ilmu pngetahuan ttg kesadaran manusia. Membatasi pd mns. Tdk pd hewan &amp; hal-2 yg tdk disadari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680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Sartain : ilmu pngtahuanp ttg perilaku manusia. Tdk meninggalkan penel pd hewan dan hslnya dikembangkan u/ mengerti ttg manus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680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Morgan : ilmu pegtahuan ttg prilku manusia dan hewan, namun pengetrapannya pada manus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93000"/>
              </a:lnSpc>
              <a:buNone/>
              <a:tabLst>
                <a:tab algn="l" pos="0"/>
                <a:tab algn="l" pos="35244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psikologi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1880" y="2138400"/>
            <a:ext cx="8412120" cy="50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-426960">
              <a:lnSpc>
                <a:spcPct val="8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Sebagai suatu ilmu psikologi mempunyai 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84080" indent="-426960">
              <a:lnSpc>
                <a:spcPct val="8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Objek: syarat mutlak dalam suatu ilmu. Karena objek membatasi langkah2 yg lbih lanjut dlm pengupasn materi, objek membatasi persoalan dan juga membatasi ilmu satu dengan lainnya (objek formal)</a:t>
            </a:r>
            <a:r>
              <a:rPr b="0" lang="ar-SA" sz="28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84080" indent="-426960">
              <a:lnSpc>
                <a:spcPct val="8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Metode : tanpa adanya metode yang teratur mk tidak dpt dipertanggung jawabkan dari segi keilmuwa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84080" indent="-426960">
              <a:lnSpc>
                <a:spcPct val="8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Sistematika. Hasil pemikiran thd objek disistematisasikan shg menggbrkan hal-2 yg dipelajari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84080" indent="-426960">
              <a:lnSpc>
                <a:spcPct val="8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Sejarah tertentu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84080" indent="0">
              <a:lnSpc>
                <a:spcPct val="83000"/>
              </a:lnSpc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655200"/>
            <a:ext cx="8607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lnSpc>
                <a:spcPct val="93000"/>
              </a:lnSpc>
              <a:buNone/>
              <a:tabLst>
                <a:tab algn="l" pos="0"/>
                <a:tab algn="l" pos="20952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Definisi psikologi sosial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494000"/>
            <a:ext cx="8418600" cy="56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-426960">
              <a:lnSpc>
                <a:spcPct val="8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Banyak para tokoh yang mendefenisikan psikologi sosial al 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73160" indent="-425520">
              <a:lnSpc>
                <a:spcPct val="8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Allport :  ilmu pengetahuan yg berusaha mengerti dan menerangkan bgm pikiran dan perasaan dan tgkah laku indvidu dipengaruhi kehadiran atau imajinasi orang lain dan sebalikny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073160" indent="0">
              <a:lnSpc>
                <a:spcPct val="83000"/>
              </a:lnSpc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333333"/>
              </a:solidFill>
              <a:latin typeface="Arial"/>
            </a:endParaRPr>
          </a:p>
          <a:p>
            <a:pPr lvl="2" marL="1073160" indent="-425520">
              <a:lnSpc>
                <a:spcPct val="8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Baron &amp; Byrne: ilmu pngtahuan yang mempelajari sesab-sebab terjadinya perilaku dan pemikiran individu dalam konteks sosial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073160" indent="0">
              <a:lnSpc>
                <a:spcPct val="83000"/>
              </a:lnSpc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333333"/>
              </a:solidFill>
              <a:latin typeface="Arial"/>
            </a:endParaRPr>
          </a:p>
          <a:p>
            <a:pPr lvl="2" marL="1073160" indent="-425520">
              <a:lnSpc>
                <a:spcPct val="8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Kesimpulannya : ilmu pengetahuan yang mempelajari perilaku, perasaan, dan pemikiran indvidu dlm konteks sosial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073160" indent="0">
              <a:lnSpc>
                <a:spcPct val="83000"/>
              </a:lnSpc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333333"/>
              </a:solidFill>
              <a:latin typeface="Arial"/>
            </a:endParaRPr>
          </a:p>
          <a:p>
            <a:pPr lvl="2" marL="1073160" indent="-425520">
              <a:lnSpc>
                <a:spcPct val="8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Dalam konteks sosial” artinya: faktor2  sosial mempengaruhi dan membntuk perasaan, pikiran, dan perilaku individu.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0880" y="744120"/>
            <a:ext cx="8602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93000"/>
              </a:lnSpc>
              <a:buNone/>
              <a:tabLst>
                <a:tab algn="l" pos="0"/>
                <a:tab algn="l" pos="35244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Apa itu ilmu pengetahuan??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841392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Dikatakan ilmu pengetahuan harus ada 4 nilai 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8408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Akurasi : mengumpulkan informasi &amp; evaluasi ttg dunia (prilaku &amp; pemikiran sosial) scr teliti, tepat &amp; bebas dr kesalaha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8408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Objectivitas : mendapatkan informsi yg bebas dari bia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8408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Skeptisme : menerima hsil penelitian hanya bila hsl itu telah diverifikasi &amp; diuji kebenaranny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8408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Berpikiran terbuka :mengubah pandngan yang telah tertanam bila terbukti pandngan itu salah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744120"/>
            <a:ext cx="8602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93000"/>
              </a:lnSpc>
              <a:buNone/>
              <a:tabLst>
                <a:tab algn="l" pos="0"/>
                <a:tab algn="l" pos="35244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Psikologi sosial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841392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Menjawab berbagai macam pertanyaan mengenai : 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“bagaimana org saling mempengaruhi dan bgm org berprilaku dalam situasi sosial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6800" indent="0">
              <a:lnSpc>
                <a:spcPct val="93000"/>
              </a:lnSpc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0880" y="744480"/>
            <a:ext cx="86058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93000"/>
              </a:lnSpc>
              <a:buNone/>
              <a:tabLst>
                <a:tab algn="l" pos="0"/>
                <a:tab algn="l" pos="35244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Apa yg dipelajari psi sosial </a:t>
            </a:r>
            <a:br>
              <a:rPr sz="4000"/>
            </a:b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(ruang lingkup)</a:t>
            </a:r>
            <a:r>
              <a:rPr b="1" i="1" lang="ar-SA" sz="4000" spc="-1" strike="noStrike">
                <a:solidFill>
                  <a:srgbClr val="99284c"/>
                </a:solidFill>
                <a:latin typeface="Arial"/>
              </a:rPr>
              <a:t>‏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1880" y="2138400"/>
            <a:ext cx="841716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Mempelajari perilaku sosia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680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Berkaitan dg bgm mengamati orang lain dan situasi sosia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680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Bagaiman mereka (org lain) saling berinteraksi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680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Bgm kita dipengaruhi oleh situasi sosia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680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Contoh :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731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Ibu belanja di mal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0731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Kasus menolo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0731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demonstras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ra Darmawanti</dc:creator>
  <dc:description>General introduction of a new product taking customer wishes into account</dc:description>
  <dc:language>en-US</dc:language>
  <cp:lastModifiedBy>TOSHIBA SATELLITE</cp:lastModifiedBy>
  <dcterms:modified xsi:type="dcterms:W3CDTF">2010-03-02T08:00:15Z</dcterms:modified>
  <cp:revision>13</cp:revision>
  <dc:subject/>
  <dc:title>Introducing a New Product</dc:title>
</cp:coreProperties>
</file>