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920-2CB4-48B8-B516-7480AE3C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40B-E888-4E82-BA7C-B0F3B4A97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0D93-7B61-4122-8A75-18C870F00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7165-7F38-44D0-8E69-92A79D33D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CE61-3BE3-4E62-9C5A-88D9FD6DB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B68F-811F-4D1A-A8B3-C31F0B870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0C1A7-914E-4C13-82CA-CB1C28C61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924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8320" y="137124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05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924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8320" y="3858120"/>
            <a:ext cx="276048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3734-F451-4EFC-9673-15A163405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43D0-F716-42DC-9112-EAA47186B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2E6D-4885-4045-A4A9-1CEFEDE42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79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CFD0C-9213-48D9-9A7D-1839D1D6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DC41-1DAB-4F12-AE99-8FE203351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3960" y="385812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4E91-2B49-4E20-AED1-37A4A451F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960" y="1371240"/>
            <a:ext cx="41839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858120"/>
            <a:ext cx="8574120" cy="22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3702-BFD6-4308-911C-5895BD898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260280"/>
            <a:ext cx="322200" cy="474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ed0d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685800"/>
            <a:ext cx="368280" cy="47484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0073d9"/>
              </a:gs>
              <a:gs pos="100000">
                <a:srgbClr val="8abee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990360"/>
            <a:ext cx="8683560" cy="46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7f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E874-2771-4652-8843-78A66712B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-Jun-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vc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8076960" y="655272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72AC-2EC0-4E84-8E6C-29E2BFD0028A}" type="datetime5">
              <a:rPr b="0" lang="en-US" sz="12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5334120"/>
            <a:ext cx="895320" cy="63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8720" y="2625840"/>
            <a:ext cx="322200" cy="47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5480" y="2625840"/>
            <a:ext cx="328680" cy="474480"/>
          </a:xfrm>
          <a:prstGeom prst="rect">
            <a:avLst/>
          </a:prstGeom>
          <a:gradFill rotWithShape="0">
            <a:gsLst>
              <a:gs pos="0">
                <a:srgbClr val="fed0d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6640" y="3048120"/>
            <a:ext cx="422280" cy="47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6720" y="3048120"/>
            <a:ext cx="368280" cy="474480"/>
          </a:xfrm>
          <a:prstGeom prst="rect">
            <a:avLst/>
          </a:prstGeom>
          <a:gradFill rotWithShape="0">
            <a:gsLst>
              <a:gs pos="0">
                <a:srgbClr val="fefee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975040"/>
            <a:ext cx="560520" cy="422280"/>
          </a:xfrm>
          <a:prstGeom prst="rect">
            <a:avLst/>
          </a:prstGeom>
          <a:gradFill rotWithShape="0">
            <a:gsLst>
              <a:gs pos="0">
                <a:srgbClr val="0073d9"/>
              </a:gs>
              <a:gs pos="100000">
                <a:srgbClr val="8abee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7320" y="2438280"/>
            <a:ext cx="31680" cy="10526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7f0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096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Model-View-Controller (MVC)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4DC42E4-44F1-452B-B165-89C1BCD63A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Separation of concern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set up an MVC desig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 the Model first, and on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contains “data” (instance fields) representing the problem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provides setters and getters for the underlying “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 the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iew might consist of GUI components such as buttons or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e the View to update “automatically” when the underlying data in the Model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tiate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listeners for anything the user can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each listener change the Model as appropr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962520"/>
            <a:ext cx="7162560" cy="685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828800"/>
            <a:ext cx="137160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1371600"/>
            <a:ext cx="685800" cy="533520"/>
          </a:xfrm>
          <a:prstGeom prst="line">
            <a:avLst/>
          </a:prstGeom>
          <a:ln w="3168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1066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Singlet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648320"/>
            <a:ext cx="685800" cy="914400"/>
          </a:xfrm>
          <a:prstGeom prst="line">
            <a:avLst/>
          </a:prstGeom>
          <a:ln w="3168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push” or “pull”</a:t>
            </a:r>
            <a:br>
              <a:rPr sz="2000"/>
            </a:br>
            <a:r>
              <a:rPr b="0" lang="en-US" sz="2000" spc="-1" strike="noStrike">
                <a:solidFill>
                  <a:srgbClr val="ff9933"/>
                </a:solidFill>
                <a:latin typeface="Verdana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1AC7-C321-433A-8B4D-66886848B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“Reverser” progra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733920" cy="1042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2742840"/>
            <a:ext cx="857412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rogram we combine the Controller and the View (indeed, it’s hard to separate th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, which does the computation (reversing the string) is in a separat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EA35-73FE-46AA-A75A-88F7BB6E0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erserGUI.java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class ReverserGUI extends JFr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rivate ReverserModel model = new ReverserMod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rivate JTextField text = new JTextField(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new ReverserGUI().ru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// run method and button listener on next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 // e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FDDB-2997-46BE-96D7-8D6C0AF226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un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 method and the listener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143000"/>
            <a:ext cx="7619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rivate void ru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Layout(new GridLayout(2, 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getContentPane().add(t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JButton button = new JButton("Revers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getContentPane().add(butt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button.addActionListener( new Do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ac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Visible(tr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 // end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class Do implements ActionListener 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public void actionPerformed(ActionEvent arg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tring s = model.reverse( text.getText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text.setText(s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} // end inn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4445-20D3-48A3-B289-3FBE9A96B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public class ReverserModel {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public String reverse(String s) {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    StringBuilder builder = new StringBuilder(s)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    builder.reverse()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    return builder.toString();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   }</a:t>
            </a:r>
            <a:br>
              <a:rPr sz="2400"/>
            </a:b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A1E1-DBFF-40CC-94C0-AAEFBC903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how can a View “automatically” update?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73d9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imer and periodically have the View “poll”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in terms of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ppropriate timer interval frequent enough polling to display changes seamles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73d9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Observer-Observable pattern between the Model and any GUI components that need to be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 do this, you can “forget about” th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you have to learn the Observer-Observabl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96DB-F2B2-49C0-B861-74BAF6C67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er</a:t>
            </a: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abl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74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n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n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that inherits from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bject that can be “observ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that implements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“notified” when an object that it is observing announces a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have to “attach”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Listen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a bulletin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like someone who reads the bulletin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F431-26FA-4059-8B07-BEDF4B000D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able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bject that can be “observ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nts the “world” to know about what it has done, it exec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setChange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notifyObservers(); </a:t>
            </a:r>
            <a:r>
              <a:rPr b="0" lang="en-US" sz="2000" spc="-1" strike="noStrike">
                <a:solidFill>
                  <a:srgbClr val="007f00"/>
                </a:solidFill>
                <a:latin typeface="Trebuchet MS"/>
              </a:rPr>
              <a:t>/* or */ 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notifyObservers(</a:t>
            </a: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a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any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n’t know or care “who is look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0537-C6BF-4581-9DF8-2EA22686A6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onnecting them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attach an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myObservable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.addObserver(</a:t>
            </a:r>
            <a:r>
              <a:rPr b="1" i="1" lang="en-US" sz="2000" spc="-1" strike="noStrike">
                <a:solidFill>
                  <a:srgbClr val="bf00ff"/>
                </a:solidFill>
                <a:latin typeface="Times New Roman"/>
              </a:rPr>
              <a:t>myObserver</a:t>
            </a:r>
            <a:r>
              <a:rPr b="0" lang="en-US" sz="2000" spc="-1" strike="noStrike">
                <a:solidFill>
                  <a:srgbClr val="3300ff"/>
                </a:solidFill>
                <a:latin typeface="Trebuchet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“notified” when an object that it is observing announces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5FD5-712B-4966-A15D-C309542E5D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bserver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that implements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public void update(Observable obs, Object a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ove method will be invoked whenever the </a:t>
            </a:r>
            <a:r>
              <a:rPr b="0" lang="en-US" sz="2800" spc="-1" strike="noStrike">
                <a:solidFill>
                  <a:srgbClr val="3300ff"/>
                </a:solidFill>
                <a:latin typeface="Trebuchet MS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changes the information being wat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argument is a reference to the observable object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argument may be</a:t>
            </a:r>
            <a:r>
              <a:rPr b="0" lang="en-US" sz="2400" spc="-1" strike="noStrike">
                <a:solidFill>
                  <a:srgbClr val="3300ff"/>
                </a:solidFill>
                <a:latin typeface="Trebuchet MS"/>
              </a:rPr>
              <a:t>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5BC5-B07E-453C-94CF-21AAF7A6A5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Design Pattern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62200"/>
            <a:ext cx="857412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 problem in object-oriented (O-O) programming is deciding what objects to have, and what their responsibiliti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Design Patter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 recommended designs for 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patterns are a current hot topic in O-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which started it all is describ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en.citizendium.org/wiki/Design_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FA1E-89E7-4109-875A-5BCBCD9CB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Key point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does the “business log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/O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with the Model is via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pproach gives maximum flexibility in how the model i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ler provides input (control) to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ew displays what is going on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should never display w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going on in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if you ask to save a file, the View shouldn’t itself tell you that the file has been saved—it should tell you what the model 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mall programs, the Controller and View may be comb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are usually a little bit inter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160F-B57D-4D93-8959-3ADC977DAA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the end of this PowerPoint file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95480"/>
            <a:ext cx="1219320" cy="914400"/>
          </a:xfrm>
          <a:prstGeom prst="irregularSeal1">
            <a:avLst/>
          </a:prstGeom>
          <a:noFill/>
          <a:ln w="28440">
            <a:solidFill>
              <a:srgbClr val="80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92ac"/>
                </a:solidFill>
                <a:latin typeface="Arial"/>
              </a:rPr>
              <a:t>Hoor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A0F1-A897-4DA0-984A-5E59E40CE1D6}" type="slidenum">
              <a:t>2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3 design pattern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-Obser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“Publish-Subscrib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View-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DDA3-CFA3-43D5-A434-DB9B6ABEC7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why Model-View-Controller designs?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870, someone wrote a no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2002 audio-tape version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1926 hardback edition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2005 paperback edition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87, a film was made of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novel – but 4 different ways of presen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A66A-0265-4067-9399-D4D8DD647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Model-View-Controller pattern goals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ften many ways to present the sam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on how a problem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play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nd to change (i.e., “experimentation” goes 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VC design tries to separate the cod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lem from the cod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problem to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the “presentation” part to be change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“pattern” arose because management has so often demanded that programmers modi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rrect design, that’s “ha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is pattern, it becomes much “eas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1560-C2CB-40FD-B094-A267A9E5C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the three roles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data that represents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user actions by telling the Model how t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lays the current state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B28F-BB28-4DE4-8EEE-F8A0F7140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how do we design it?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las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ctual problem being 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private fields, and provides accessor (getter and setter)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always b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using a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en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vely a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played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ler and View are th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little b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1098-CCD9-493B-AD4A-10BC103D3B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e View may not be the only possible View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has to be able to see,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at the program is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ew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y of showing what the Model is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iew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ssive obser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it should not change th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should know nothing about any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t can provide getters for use by Views or by th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iew and a Controller shoul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unicate directly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A6B7-8BC2-4F67-8EDD-8606244C6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Combining Controller and View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Controller and View are combined, especially in small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the Controller and View is appropriate if they are very inter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73d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x Model code with GUI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bf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: you may be required to change th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73d9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keep View and Model separate, changing the View will be relatively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174E-8C43-4199-8652-7FF47764EB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1T20:07:19Z</dcterms:created>
  <dc:creator>Pat Palmer</dc:creator>
  <dc:description>derived from slides authored by Dr. Dave Matuszek, Univ. of Penn., with permission</dc:description>
  <dc:language>en-US</dc:language>
  <cp:lastModifiedBy>Pat G. Palmer</cp:lastModifiedBy>
  <cp:lastPrinted>2000-10-11T20:31:11Z</cp:lastPrinted>
  <dcterms:modified xsi:type="dcterms:W3CDTF">2007-06-25T23:49:51Z</dcterms:modified>
  <cp:revision>73</cp:revision>
  <dc:subject/>
  <dc:title>Model View Controller</dc:title>
</cp:coreProperties>
</file>