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A51-1829-4C23-8EF3-A679F96C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3B4-9A3A-4157-AE8C-EC7FBE591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0954-9A70-4576-9A17-0ED2E7DFF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597C-D639-4AC4-9F15-862FDD334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F985-FEAD-4F81-B931-5581DCF09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19D4-A648-426D-80C4-6CE485070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59D7-CCE1-436A-90B9-FCB5AEB8F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C1B3-579A-4A3A-992B-BCEB2BDA5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A9FB-0994-4825-9A7D-4B9D7DA6D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DDCC-611D-4C60-BFF5-F2C8EA0E6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00DA-E7DB-4074-8259-7626CC76A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D7D5-9D1C-4D67-B35B-BB35609A2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8C58-CC01-4319-A9B1-7DC41737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D5D8-9A3B-44C6-8D55-3C7BEFC23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260280"/>
            <a:ext cx="322200" cy="4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ed0d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685800"/>
            <a:ext cx="368280" cy="47484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73d9"/>
              </a:gs>
              <a:gs pos="100000">
                <a:srgbClr val="8abe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990360"/>
            <a:ext cx="8683560" cy="46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7f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CAC3-96EC-41DA-B97D-97F86A910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-Jun-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c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807696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7362-A67F-4003-9058-F37C60CBE4DC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533412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8720" y="2625840"/>
            <a:ext cx="32220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5480" y="2625840"/>
            <a:ext cx="328680" cy="474480"/>
          </a:xfrm>
          <a:prstGeom prst="rect">
            <a:avLst/>
          </a:prstGeom>
          <a:gradFill rotWithShape="0">
            <a:gsLst>
              <a:gs pos="0">
                <a:srgbClr val="fed0d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6640" y="3048120"/>
            <a:ext cx="422280" cy="47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3048120"/>
            <a:ext cx="368280" cy="4744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975040"/>
            <a:ext cx="560520" cy="422280"/>
          </a:xfrm>
          <a:prstGeom prst="rect">
            <a:avLst/>
          </a:prstGeom>
          <a:gradFill rotWithShape="0">
            <a:gsLst>
              <a:gs pos="0">
                <a:srgbClr val="0073d9"/>
              </a:gs>
              <a:gs pos="100000">
                <a:srgbClr val="8abe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7320" y="2438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7f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Model-View-Controller (MVC)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2A3E1C-379E-4803-82B7-8BD8C1A8F1A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eparation of conc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et up an MVC desig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Model first, and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ontains “data” (instance fields) representing the 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provides setters and getters for the underlying “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ew might consist of GUI components such as buttons or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e the View to update “automatically” when the underlying data in the Mode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listeners for anything the user ca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each listener change the Model as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962520"/>
            <a:ext cx="7162560" cy="685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828800"/>
            <a:ext cx="137160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1371600"/>
            <a:ext cx="685800" cy="533520"/>
          </a:xfrm>
          <a:prstGeom prst="line">
            <a:avLst/>
          </a:prstGeom>
          <a:ln w="3168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1066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inglet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648320"/>
            <a:ext cx="685800" cy="914400"/>
          </a:xfrm>
          <a:prstGeom prst="line">
            <a:avLst/>
          </a:prstGeom>
          <a:ln w="3168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ush” or “pull”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FF76-1002-4F54-96BA-0F290B7C8D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“Reverser” progra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733920" cy="1042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857412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rogram we combine the Controller and the View (indeed, it’s hard to separate th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, which does the computation (reversing the string) is in a separat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39B0-9DCC-47F9-AEC2-21EDD8CF7B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erserGUI.java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class ReverserGUI extends JFr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ReverserModel model = new ReverserMod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JTextField text = new JTextField(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ew ReverserGUI().ru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// run method and button listener on 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82E8-6764-44F7-B5CE-1169B5040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un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 method and the listener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143000"/>
            <a:ext cx="7619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void ru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Layout(new GridLayout(2, 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getContentPane().add(t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JButton button = new JButton("Revers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getContentPane().add(butt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.addActionListener( new Do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class Do implements ActionListener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void actionPerformed(ActionEvent arg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tring s = model.reverse( text.getText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text.setText(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inn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A650-F929-4025-B951-5AAE3F8DE5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public class ReverserModel {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public String reverse(String s) {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StringBuilder builder = new StringBuilder(s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builder.reverse(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return builder.toString(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}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4233-6641-47BB-8962-DEC0CCEEB7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how can a View “automatically” update?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3d9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imer and periodically have the View “poll”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in terms of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ppropriate timer interval frequent enough polling to display changes seamles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73d9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Observer-Observable pattern between the Model and any GUI components that need to be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do this, you can “forget about” th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you have to learn the Observer-Observabl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5DF5-FF0D-488B-9FC1-63B1F01C13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er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ab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74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that inherits from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bject that can be “observ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that implements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“notified” when an object that it is observing announces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 to “attach”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bulletin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someone who reads the bulletin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5A05-94D2-432A-B7AD-6855200255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ab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 can be “observ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nts the “world” to know about what it has done, it exec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Change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otifyObservers(); </a:t>
            </a:r>
            <a:r>
              <a:rPr b="0" lang="en-US" sz="2000" spc="-1" strike="noStrike">
                <a:solidFill>
                  <a:srgbClr val="007f00"/>
                </a:solidFill>
                <a:latin typeface="Trebuchet MS"/>
              </a:rPr>
              <a:t>/* or */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otifyObservers(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n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n’t know or care “who is look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B987-7A10-45C6-B468-970200D7D6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nnecting the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ttach 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myObservable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.addObserver(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myObserver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“notified” when an object that it is observing announces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806B-F0BD-4331-938E-29FDE5FEF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er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implements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public void update(Observable obs, Object a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ove method will be invoked whenever the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hanges the information being w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argument is a reference to the observable object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argument may be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5B7C-BE4B-4BD6-809A-6B24B72858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Design Patt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62200"/>
            <a:ext cx="85741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 problem in object-oriented (O-O) programming is deciding what objects to have, and what their responsibiliti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esign Patter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 recommended designs for 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patterns are a current hot topic in O-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which started it all is describ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en.citizendium.org/wiki/Design_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833D-3DCB-48B6-A8E1-6E11D8A0E5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Key point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does the “business log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/O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with the Model is via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pproach gives maximum flexibility in how the model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provides input (control)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displays what is going on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never display w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going on in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you ask to save a file, the View shouldn’t itself tell you that the file has been saved—it should tell you what the mode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mall programs, the Controller and View may be 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usually a little bit inter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D4E7-23E6-4AC4-AE98-FD258B249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end of this PowerPoint file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1219320" cy="914400"/>
          </a:xfrm>
          <a:prstGeom prst="irregularSeal1">
            <a:avLst/>
          </a:prstGeom>
          <a:noFill/>
          <a:ln w="2844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92ac"/>
                </a:solidFill>
                <a:latin typeface="Arial"/>
              </a:rPr>
              <a:t>Hoor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3C51-0EA3-42AE-9AA4-461F2AE59213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3 design patt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-Obser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“Publish-Subscrib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View-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7C91-9AC4-4EF0-B5B8-56C8A2359F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why Model-View-Controller designs?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70, someone wrote a no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2002 audio-tape vers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1926 hardback edit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2005 paperback edit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7, a film was made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ovel – but 4 different ways of presen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7F83-F436-4380-A5E1-BCD7A073A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Model-View-Controller pattern goals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ften many ways to present the sam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on how a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pla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nd to change (i.e., “experimentation” goes 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VC design tries to separate the cod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lem from the cod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lem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the “presentation” part to be change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“pattern” arose because management has so often demanded that programmers modi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rrect design, that’s “ha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pattern, it becomes much “eas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2DF2-F43E-4B5D-85DF-45C505CE1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three rol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data that represents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user actions by telling the Model how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lays the current state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7B97-2F83-46B2-9FA5-E539EE17D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how do we design it?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las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ctual problem being 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private fields, and provides accessor (getter and setter)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always b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sing a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vely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played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and View are th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little b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4E24-C90F-44BF-B734-5A42BF942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e View may not be the only possible View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has to be able to see,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at the program is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 of showing what the Model is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iew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ssive 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it should not change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should know nothing about an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 can provide getters for use by Views or by th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and a Controller shoul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26FB-C409-4DEE-BA2A-C4997D78AE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mbining Controller and View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Controller and View are combined, especially in smal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the Controller and View is appropriate if they are very inter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x Model code with GUI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 you may be required to change th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keep View and Model separate, changing the View will be relatively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AC3F-6C78-4FF0-8653-B968F747DE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20:07:19Z</dcterms:created>
  <dc:creator>Pat Palmer</dc:creator>
  <dc:description>derived from slides authored by Dr. Dave Matuszek, Univ. of Penn., with permission</dc:description>
  <dc:language>en-US</dc:language>
  <cp:lastModifiedBy>Pat G. Palmer</cp:lastModifiedBy>
  <cp:lastPrinted>2000-10-11T20:31:11Z</cp:lastPrinted>
  <dcterms:modified xsi:type="dcterms:W3CDTF">2007-06-25T23:49:51Z</dcterms:modified>
  <cp:revision>73</cp:revision>
  <dc:subject/>
  <dc:title>Model View Controller</dc:title>
</cp:coreProperties>
</file>