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png" ContentType="image/png"/>
  <Override PartName="/ppt/media/image3.jpeg" ContentType="image/jpeg"/>
  <Override PartName="/ppt/media/BonnieTyler_TotalEclipseOfTheHeart.wav" ContentType="audio/x-wav"/>
  <Override PartName="/ppt/media/image5.jpeg" ContentType="image/jpeg"/>
  <Override PartName="/ppt/media/image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6C0-5C91-4781-904D-BFD8BA19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39C-6A2F-489E-BA3B-124F5B8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D5D-B1E6-43A2-AF46-EEAD00A0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F56-E8C2-41D8-9476-42E0632A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35B-5732-40CC-A17D-5F806A0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1A1-0DEA-48A5-9D71-1E097EC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6F8-E0AC-4080-B527-064DE7B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54F-3691-4FE8-9774-75C1D53F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369-D31E-4BF1-BBE0-62E10D0F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CDD-A7C3-4D6E-8E99-E4C3CB3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678-CD5C-404A-BDDE-0F35D74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C79-B4F3-4AB3-8FC0-FB501EB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B34-B759-45E3-98E2-E014FBE2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BonnieTyler_TotalEclipseOfTheHeart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549360"/>
            <a:ext cx="3024360" cy="151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N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K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852640"/>
            <a:ext cx="7344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EPT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OR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ELUK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54160" y="4762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dit 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2880" y="5877000"/>
            <a:ext cx="43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n wie je ontmo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9680" y="214200"/>
            <a:ext cx="8324640" cy="642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70880" y="90792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an proef je ge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5240" y="4797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Zo is het g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489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8360" y="4941720"/>
            <a:ext cx="83516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ww.frank-gea.drentsweb.n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62160" y="4941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AT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 BEKERS VOL GED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18360" y="106668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n een hart met lief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ev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70000" y="560232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Twee handen,mild om te g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44160" y="480996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n een hoofd vol beg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6000" y="56754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oor he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8280360" cy="61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90000" y="4378320"/>
            <a:ext cx="426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en vleugje hu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ist op tij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8560" y="635040"/>
            <a:ext cx="386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sprenkeld 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riendelijk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6520" y="981000"/>
            <a:ext cx="409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it alles gemeng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r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ertrouw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13640" y="1282680"/>
            <a:ext cx="279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m het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 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uw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23:46Z</dcterms:created>
  <dc:creator>Frank</dc:creator>
  <dc:description/>
  <dc:language>en-US</dc:language>
  <cp:lastModifiedBy>Smets</cp:lastModifiedBy>
  <dcterms:modified xsi:type="dcterms:W3CDTF">2008-08-15T18:49:20Z</dcterms:modified>
  <cp:revision>3</cp:revision>
  <dc:subject/>
  <dc:title>Dia 1</dc:title>
</cp:coreProperties>
</file>