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9.jpeg" ContentType="image/jpeg"/>
  <Override PartName="/ppt/media/2,29%20Voor%20Nabula%20%20Kitaro.WAV" ContentType="audio/x-wav"/>
  <Override PartName="/ppt/media/image1.jpeg" ContentType="image/jpeg"/>
  <Override PartName="/ppt/media/image27.gif" ContentType="image/gif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8DA-907C-4262-8FF5-C14D618B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CC7-860F-4EE1-B4D7-F66BFBD9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C79-853A-4809-BEF7-197CE220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121-B303-4C4C-986F-D4035927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AD4-CFD0-47AC-BCC4-81A50B8E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10B-D252-4AA9-A69C-65C9FE40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E08-839F-45F1-9372-5740F2E7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3D7-92A0-4F8C-8D1A-E554D501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9A2-9130-4432-B65E-F8187B26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FD5-0EA0-43F4-94DC-5B25E644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D86-056B-4874-B948-CC54B167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31E-231F-4337-A27C-EE831F06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3009-DFB9-4717-B5A5-335B9B189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2,29%20Voor%20Nabula%20%20Kitaro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186800">
            <a:off x="342360" y="1618920"/>
            <a:ext cx="9510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66ffff"/>
                </a:solidFill>
                <a:latin typeface="Arial"/>
              </a:rPr>
              <a:t>Gerard’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66ffff"/>
                </a:solidFill>
                <a:latin typeface="Arial"/>
              </a:rPr>
              <a:t>Power Point Voorstell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0720" y="2997360"/>
            <a:ext cx="80002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600" spc="-1" strike="noStrike">
                <a:solidFill>
                  <a:srgbClr val="66ffff"/>
                </a:solidFill>
                <a:latin typeface="Arial"/>
              </a:rPr>
              <a:t>Nebulas.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1080" y="1601640"/>
            <a:ext cx="90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66ffff"/>
                </a:solidFill>
                <a:latin typeface="Arial"/>
              </a:rPr>
              <a:t>Ver heel ver bij ons vandaa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66ffff"/>
                </a:solidFill>
                <a:latin typeface="Arial"/>
              </a:rPr>
              <a:t>Zijn</a:t>
            </a:r>
            <a:r>
              <a:rPr b="0" lang="nl-BE" sz="5400" spc="-1" strike="noStrike">
                <a:solidFill>
                  <a:srgbClr val="66ffff"/>
                </a:solidFill>
                <a:latin typeface="Arial"/>
              </a:rPr>
              <a:t> ze aanwezi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64000"/>
            <a:ext cx="96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66ffff"/>
                </a:solidFill>
                <a:latin typeface="Arial"/>
              </a:rPr>
              <a:t>Door de Hubble telescoop gez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99880" y="630396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dcb163"/>
                </a:solidFill>
                <a:latin typeface="Arial"/>
              </a:rPr>
              <a:t>Muziek Kitaro. Dans of Sarasv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  <p:sndAc>
      <p:stSnd>
        <p:snd r:embed="rId2" name="2,29%20Voor%20Nabula%20%20Kitar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85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85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008080"/>
            </a:gs>
            <a:gs pos="100000">
              <a:srgbClr val="99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cc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440"/>
            <a:ext cx="9468000" cy="68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440"/>
            <a:ext cx="9144000" cy="685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43005a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440"/>
            <a:ext cx="9144000" cy="68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3508"/>
            </a:gs>
            <a:gs pos="100000">
              <a:srgbClr val="40547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dcb1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b94a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966"/>
            </a:gs>
            <a:gs pos="100000">
              <a:srgbClr val="49545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331"/>
            </a:gs>
            <a:gs pos="100000">
              <a:srgbClr val="9e76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511"/>
            </a:gs>
            <a:gs pos="100000">
              <a:srgbClr val="6aa4b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40"/>
            <a:ext cx="9144000" cy="68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52200" y="2900520"/>
            <a:ext cx="278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ffffff"/>
                </a:solidFill>
                <a:latin typeface="Arial"/>
              </a:rPr>
              <a:t>Ein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7d0"/>
            </a:gs>
            <a:gs pos="100000">
              <a:srgbClr val="5d372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325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09:10:45Z</dcterms:created>
  <dc:creator>Verbeek</dc:creator>
  <dc:description/>
  <dc:language>en-US</dc:language>
  <cp:lastModifiedBy>Smets</cp:lastModifiedBy>
  <dcterms:modified xsi:type="dcterms:W3CDTF">2008-09-23T18:40:59Z</dcterms:modified>
  <cp:revision>2</cp:revision>
  <dc:subject/>
  <dc:title>Dia 1</dc:title>
</cp:coreProperties>
</file>