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5.png" ContentType="image/png"/>
  <Override PartName="/ppt/media/image10.wmf" ContentType="image/x-wmf"/>
  <Override PartName="/ppt/media/image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08C7-D71A-42AA-96A8-FEB1E2F3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5C5-188F-460E-A9CF-F1B19BB1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D99-F18B-46A5-B2DB-2952CA12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0869-7901-4D7F-8250-E3CAA189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883-8766-49DE-9FC7-21AFD64E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830-A276-4326-84D2-7B217E3E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FFA2-7ED2-4E61-8082-EE1AB623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00E-CB48-438A-AFAF-21C309E0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913-4BB1-4BA4-9871-CB1805A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0DA-0D3F-423A-A18D-EE9348AE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3F9-F660-44C6-9250-E3172590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621-5FF9-4524-AEF2-9DE5B5E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870-E043-4B1E-B599-069B223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753-3879-4115-BE0B-D6D6F90C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242-B8A7-4039-B806-B9BCFA4E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0E4-C5D7-47C4-823D-35744A2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70D-07E8-4390-A628-BC0D05D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687-5A20-4B61-B292-2B6A59F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AA9-61D7-4F5C-98B5-23307AC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8A4-9AD6-4325-96BC-C286BE4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000-D4CA-4DD1-89B8-7B8279E5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/INTEGRADO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: Sustentabilidade/Efetivida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CAUS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CONS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280" y="254160"/>
          <a:ext cx="8699760" cy="64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4160"/>
                    <a:ext cx="8699760" cy="64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04920" y="152280"/>
          <a:ext cx="826776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26776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m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r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is -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FE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NISTÉRIO PÚBL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FOCO – PRIOR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2005-2006 – Entre out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Famil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ns – projetos nas coma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io Grande – mortalidade infantil 2007  = 9,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bitos/1000 nascidos v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2007 – Posicionamento Estraté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 Estratégico – GEMP 202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/INTEGRADO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: Sustentabilidade/Efetividad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-3094200"/>
            <a:ext cx="82548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920" y="685800"/>
            <a:ext cx="82184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tomando, em um contexto mais amplo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o as verdadeiras causas do crescente desrespeito à natureza e à dignidade da pessoa humana, própria e dos dema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-5965920"/>
            <a:ext cx="74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920" y="762120"/>
            <a:ext cx="8218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Parece que as causas são sistêmic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ou sej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correm de </a:t>
            </a:r>
            <a:r>
              <a:rPr b="1" i="1" lang="pt-BR" sz="3600" spc="-1" strike="noStrike" u="sng">
                <a:solidFill>
                  <a:srgbClr val="0066ff"/>
                </a:solidFill>
                <a:uFillTx/>
                <a:latin typeface="Tahoma"/>
              </a:rPr>
              <a:t>RELAÇÕES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interdependentes e inter-relacionadas entre diversos componentes do </a:t>
            </a: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HABIT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5965920"/>
            <a:ext cx="139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920" y="457200"/>
            <a:ext cx="8218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o remediá-l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 u="sng">
                <a:solidFill>
                  <a:srgbClr val="000000"/>
                </a:solidFill>
                <a:uFillTx/>
                <a:latin typeface="Arial"/>
              </a:rPr>
              <a:t>PLANEJAMENTO E GEST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ÃO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Arial"/>
              </a:rPr>
              <a:t>SISTÊMICOS/INTEGR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 possibilitam a visão e a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integra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de recursos multidisciplinares, intersetoriais e transdisciplinares, cujo desempenho podem afetar, positiva ou negativamente, a sociedade como um t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76880" y="1600200"/>
            <a:ext cx="63360" cy="782640"/>
          </a:xfrm>
          <a:prstGeom prst="downArrow">
            <a:avLst>
              <a:gd name="adj1" fmla="val 50000"/>
              <a:gd name="adj2" fmla="val 3088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254320"/>
            <a:ext cx="457200" cy="1042920"/>
          </a:xfrm>
          <a:prstGeom prst="downArrow">
            <a:avLst>
              <a:gd name="adj1" fmla="val 50000"/>
              <a:gd name="adj2" fmla="val 570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l é a relação com a Conferência Mundial sobre o Desenvolvimento de Cidades ?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1º T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Direito à C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S LOCAIS SOBR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REITOS E RESPONSABIL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S CIDAD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2º 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Governança e Democracia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em C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ERIÊNCIAS INOVADORA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STÃO E PARTICIP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MOCR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4600" y="152280"/>
            <a:ext cx="8472240" cy="65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/Integrados é permitir o mapeamento e a integração que possibilitam ser atingida a Paz, interna e externa, exteriorizada em efetividade e sustentabilidade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o planejamento e gestão sistêmicos/integrados, que possibilitam a visão e a integração de recursos multidisciplinares, intersetoriais e transdisciplinares, cujos desempenhos podem afetar, positiva ou negativamente, a sociedade como um todo. Nesse contexto, pode-se estabelecer o que fazer, como, quem, onde, e quando/porque, bem como de que forma mapear e integralizar todos esses componentes. Para isso, verifica-se a importância de tornar-se consciente a missão comum, percebida como “benefícios mútuos” e concretizada através do atendimento de necessidades fisiológicas, psicológicas - segurança, pertencimento e auto-estima - e auto-realização (diferentemente de desejos), nos três eixos da sustentabilidade (econômico, social – saúde, educação, cidadania e segurança – e ambiental), com foco prioritário na família, de modo a gerar efeitos públicos, agregando valor sustentável. Essa missão comum exige e favorece a formação de redes de cooperação para a atuação sistêmica, priorizando o núcleo familiar e permitindo a integração dos três setores (público, privado e sociedade civil organizada) e da comunidade em ge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85800"/>
            <a:ext cx="861192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s redes, que tornam visíveis esforços isolados e possibilitam a integração e a Paz (interna e externa), geram um modelo de desenvolvimento integrado e sustentável, planejado pela base da sociedade, no qual é propiciada a democracia, participativa e representativa. Em outras palavras, garantem a sobrevivência. Contudo, para que isso possa ser concretizado, o planejamento e a gestão deverão produzir o pensamento sistêmico, contemplando o mapeamento das necessidades, possibilidades e atividades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-responsabilidade e a compreensão do binômio dever-direito, despertando a noção de contexto e afastando práticas imediatistas baseadas exclusivamente na punição ou vitimização. Cria, assim, o verdadeiro pensamento sistêmico, assemelhando-se ao pensamento complexo de Edgar Morin (no qual a transdisciplinaridade é um dos focos principa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4600" y="533520"/>
            <a:ext cx="847224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AIXA, BNDES - Redes Sociais, etc.), bem como garante o cumprimento de diversos Tratados, Convenções, Pactos e Planos de Ações das várias Conferências das Nações Unidas (Convenção sobre a Eliminação de Todas as Formas de Discriminação Contra a Mulher, Convenção Sobre os Direitos da Criança, Plano de Ação da Conferência Mundial de População e Desenvolvimento, etc.). Ademais, se o planejamento e gestão sistêmicos utilizarem metodologias, ferramentas e sistema de avaliação, poderão ser elaborados um Índice de Desenvolvimento Sistêmico e/ou um Índice de Desenvolvimento Integrado transparentes e, portanto, confiáveis. Desse modo, diminui o risco dos investimentos efetivados no local, o que atrai recursos nacionais e internacionais para a região (por exemplo, via investimento sistêmico na bolsa de valores, através do ISE - Índice de Sustentabilidade Empresarial da Bovespa, DJSI - Dow Jones Sustainability Indexes da Bolsa de Nova York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é atingida a efetividade e a sustentabilidade. Na verdade, a Paz, interna e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0880" y="228600"/>
          <a:ext cx="835344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344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1066680"/>
          <a:ext cx="807696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28600" y="2438280"/>
          <a:ext cx="853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53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280" y="228600"/>
          <a:ext cx="8521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521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228600"/>
          <a:ext cx="835344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344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evemos Verific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Qual é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normalmente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 fo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políticas locais e das experiências de gestão e participação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clo d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 que podemos fazer?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clo do Equilí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CONEXÕ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SC – Primeiro Processo = Tradução da Visão e da Estraté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imeira Perspectiva: Clien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73152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04920" y="1828800"/>
          <a:ext cx="838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38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P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SC - Segunda Perspectiva  = Acionista/Financeira X Re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5053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2120" y="1447920"/>
          <a:ext cx="419076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4190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85800" y="304920"/>
          <a:ext cx="73915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3915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SC - Quarta perspectiva - Aprendizado e Crescimento/Inov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81080" y="4038480"/>
          <a:ext cx="65534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6553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3520" y="990720"/>
          <a:ext cx="77724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990720"/>
                    <a:ext cx="7772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Ministério Público estabelece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para implementação: </a:t>
            </a:r>
            <a:br>
              <a:rPr sz="2800"/>
            </a:br>
            <a:br>
              <a:rPr sz="28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JETIVOS-DESCRIÇÃO DO OBJETIVO-IDICADORES-UNIDADE DE MEDIDA-PERIODICIDAD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5480" y="2209680"/>
          <a:ext cx="74930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2209680"/>
                    <a:ext cx="7493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7340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IS OS REFLEXOS SISTÊMICOS DESSA FORMA DE ATUAÇ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1- Cumprimento de diretrizes nacionais e internacion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ferência Internacional das Nações Unidas sobre População e Desenvolvimento – Cai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claração de Istambul sobre Assentamentos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8° Objetivo de Desenvolvimento do Milêni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uma Parceria Mundial para o Desenvol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undação Nacional de Qualidade – Fundamentos de Excelência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decorrência disso e por gerar diminuição no risco dos investiment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433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- Acesso a recursos humanos e monetá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SE – Índice de Sustentabilidade Empresarial da Boves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JSI – Dow Jones Sustentability Index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50 da Agenda Habitat para 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ia financiamentos da CAIX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verdade, o Planejamento e Gestão Sistêmicos/Integra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 foco prioritário na famíl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com a utilizaçã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ria, com transparê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ciclo de efeitos públ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to desenvolver a consciência dos direitos e das 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iciando,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Com Governança e Democracia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Direito à C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cal de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Paz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interna e externa, exteriorizada em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efetiv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sustentabil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s do que isso..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OSSIBILITA COMPRE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todos fizemos parte de uma grande família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Harlow Solid Italic"/>
              </a:rPr>
              <a:t>que </a:t>
            </a: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Gestão é </a:t>
            </a:r>
            <a:r>
              <a:rPr b="1" lang="pt-BR" sz="2800" spc="-1" strike="noStrike" u="sng">
                <a:solidFill>
                  <a:srgbClr val="0066ff"/>
                </a:solidFill>
                <a:uFillTx/>
                <a:latin typeface="Wide Latin"/>
              </a:rPr>
              <a:t>INTEGRAÇÃO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!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Aliás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eter Drucker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 já afirm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“ 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A essência da administração é o </a:t>
            </a:r>
            <a:r>
              <a:rPr b="1" i="1" lang="pt-BR" sz="2800" spc="-1" strike="noStrike">
                <a:solidFill>
                  <a:srgbClr val="0066ff"/>
                </a:solidFill>
                <a:latin typeface="Harlow Solid Italic"/>
              </a:rPr>
              <a:t>ser humano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. Seu objetivo é tornar as pessoas capazes do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desempenho em conjunto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, tornar suas forças eficazes e suas fraquezas irrelevantes. Isso é a organização, e a administração é o fator determinante.” </a:t>
            </a:r>
            <a:r>
              <a:rPr b="0" lang="pt-BR" sz="2800" spc="-1" strike="noStrike">
                <a:solidFill>
                  <a:srgbClr val="000000"/>
                </a:solidFill>
                <a:latin typeface="Harlow Solid Italic"/>
              </a:rPr>
              <a:t>(As Novas Realidades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39080" y="-588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Municíp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novo mundo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34880" y="1400040"/>
          <a:ext cx="8132760" cy="814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400040"/>
                    <a:ext cx="8132760" cy="814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 esses conceitos podemos efetivar o 3º tema da conferência mundia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Desenvolvimento Local em C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cessos de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investiment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em Capital Social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senvolver Ativos Econômicos, Ambientais, Humanos, Sociais e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2840"/>
            <a:ext cx="8610480" cy="78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STRATÉGIAS GE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Mape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necess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fisiológicas; psicológicas e de auto-realização),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da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três setores e da comunidade em geral (constituição de banco de dados; mapeamento sistêmico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Tradução da Visão e da Estratég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Integ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-Reuniões; B-Modelos - projetos e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dic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C- Replicação -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óruns, seminários, jornadas, internet, etc.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anced Scorec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Tradução da Visão e da Estratégia; Comunicação e Conexão; Planejamento de Negócios; Aprendizado e Feed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Índice de Desenvolvimento Sistê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(ou/e IDI -Índice de Desenvolvimento Integ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mplementando as estratégias gerais é possível a elaboração do IDS e de indicadores de desenvolvimento sistêmico pessoal, familiar, municipal, estadual, regional, federal e internacional - que priorizam a qualidade das rela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228600"/>
          <a:ext cx="821700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17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228600"/>
          <a:ext cx="83566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66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52280" y="228600"/>
          <a:ext cx="8839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414720"/>
            <a:ext cx="812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Necess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fisiológicas, psicológicas e que permitam a auto-realização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Possibil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Ativ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s três setores e da comunidade em geral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nco de Dad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52280" y="228600"/>
          <a:ext cx="8839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790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)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) Modelos –Projetos 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) Replicaçã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fóruns, seminários, jornadas, interne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ferimos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INDICADORES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como método mecanicista de controle,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 si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orientadores de qualidade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das rela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como afirmado na obra “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Kaplan e Norton na Prática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s indicadores destinam-se 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congregar as pesso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m busca da visão geral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o combinar as perspectivas..., o balanced scorecard ajuda os gerentes 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Arial"/>
              </a:rPr>
              <a:t>compreende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lo men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mplicitament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, muita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Arial"/>
              </a:rPr>
              <a:t>nterconexões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ntro da empresa.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 O balanced scorecard  induz as empresas a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olhar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 e a se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movimenta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para frent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ao invés de para trá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152280"/>
          <a:ext cx="826776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26776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80880" y="228600"/>
          <a:ext cx="821700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17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e contexto, podemos acrescentar uma reflexão na busca de compreender a última pergunta da Conferência Mundi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º te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Sustentabilidade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e Cidade-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mergência das Redes Sociais e a Cidade Sustentável d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0 -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 as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Tahoma"/>
              </a:rPr>
              <a:t>RELAÇÕES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tre a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sustentabilidad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as cidades, democracia local e sistemas de governança que incorporem a participação da população em novos modelos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sistêmico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e gestão pública compartilh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806400" y="612720"/>
          <a:ext cx="7527960" cy="5630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612720"/>
                    <a:ext cx="752796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04920" y="0"/>
          <a:ext cx="826776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6776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2:54:27Z</dcterms:created>
  <dc:creator>Rodrigo Schoeller de Moraes</dc:creator>
  <dc:description/>
  <dc:language>en-US</dc:language>
  <cp:lastModifiedBy>MP</cp:lastModifiedBy>
  <cp:lastPrinted>2008-03-17T20:57:18Z</cp:lastPrinted>
  <dcterms:modified xsi:type="dcterms:W3CDTF">2008-07-18T18:32:54Z</dcterms:modified>
  <cp:revision>215</cp:revision>
  <dc:subject/>
  <dc:title>Slide 1</dc:title>
</cp:coreProperties>
</file>