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26.png" ContentType="image/png"/>
  <Override PartName="/ppt/media/image25.png" ContentType="image/png"/>
  <Override PartName="/ppt/media/image10.wmf" ContentType="image/x-wmf"/>
  <Override PartName="/ppt/media/image7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2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32.wmf" ContentType="image/x-wmf"/>
  <Override PartName="/ppt/media/image2.wmf" ContentType="image/x-wmf"/>
  <Override PartName="/ppt/media/image31.wmf" ContentType="image/x-wmf"/>
  <Override PartName="/ppt/media/image1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png" ContentType="image/png"/>
  <Override PartName="/ppt/media/image18.wmf" ContentType="image/x-wmf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07F7-A636-4782-A41E-970EEA1BA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4957-79FC-42B4-9B0D-BD6A0DBCF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39920" y="914400"/>
            <a:ext cx="4178160" cy="31338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244160" y="4351320"/>
            <a:ext cx="437364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61EF-969E-43CB-AE11-B074A7D97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39920" y="914400"/>
            <a:ext cx="4178160" cy="31338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244160" y="4351320"/>
            <a:ext cx="437364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CDCF-8EB0-4EE2-953C-A0760E669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339920" y="914400"/>
            <a:ext cx="4178160" cy="31338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244160" y="4351320"/>
            <a:ext cx="437364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8F01-885C-4B73-9D74-AABDDF553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339920" y="914400"/>
            <a:ext cx="4178160" cy="31338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045800" y="4351320"/>
            <a:ext cx="47703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ACEA-ED98-464F-A72C-27DCD9E02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339920" y="914400"/>
            <a:ext cx="4178160" cy="31338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045800" y="4351320"/>
            <a:ext cx="47703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EEA7-443E-4A5B-9256-90D689027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39920" y="914400"/>
            <a:ext cx="4178160" cy="31338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045800" y="4351320"/>
            <a:ext cx="47703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01FF-36B1-438D-BAC8-69F9442A5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E844-2DE2-4F66-9EF6-DEF31E56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0BCC-D65F-422E-A2AA-CB6FB8D8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9A49-5714-4D8A-B256-872057DB1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E509-6659-43F6-A9D8-A6D8A53C7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57CC-CAA7-474B-B534-7664D3A4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E89E-2EF5-4ED6-8C31-C0A2B86C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8D51-1002-4DF6-B185-82692A56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A100-FD88-4604-9C82-6BD6F64D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7C65-E837-4E34-9085-1CD96031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AE03-58CC-48C5-BFE4-F3CC4CBE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7246-F0CF-443C-B7FA-4553C629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90FF-F1B4-4FA5-BAB7-C3948562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BB2F-2F01-41C8-9A11-993817E1F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 GESTÃO DO MINISTÉRIO PÚBLICO NO PLANEJAMENTO E GESTÃO SISTÊMICOS/INTEGRADOS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ca: Sustentabilidade/Efetividad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z – interna e ex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181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U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 CAUSAS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 CONS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ÜÊ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52280" y="254160"/>
          <a:ext cx="8699760" cy="648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54160"/>
                    <a:ext cx="8699760" cy="64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297160" y="1727280"/>
          <a:ext cx="4549680" cy="3403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7160" y="1727280"/>
                    <a:ext cx="454968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219320" y="380880"/>
          <a:ext cx="6476760" cy="6172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80880"/>
                    <a:ext cx="64767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839880" y="150840"/>
          <a:ext cx="7556400" cy="64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50840"/>
                    <a:ext cx="7556400" cy="64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04920" y="152280"/>
          <a:ext cx="8267760" cy="585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280"/>
                    <a:ext cx="8267760" cy="58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TENTABILID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em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rm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gerenciais -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FETIV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80520" y="21333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INISTÉRIO PÚBLIC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FOCO – PRIOR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- 2005-2006 – Entre outr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nejamento Famili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óruns – projetos nas comar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Rio Grande – mortalidade infantil 2007  = 9,3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óbitos/1000 nascidos viv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 - 2007 – Posicionamento Estratég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pa Estratégico – GEMP 202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GESTÃO DO MINISTÉRIO PÚBLICO NO PLANEJAMENTO E GESTÃO SISTÊMICOS/INTEGRADOS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ca: Sustentabilidade/Efetividade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z – interna e ex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tuar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nas Causas e nas Conseqü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-3094200"/>
            <a:ext cx="825480" cy="67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9920" y="685800"/>
            <a:ext cx="821844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Retomando, em um contexto mais amplo 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Quais são as verdadeiras causas do crescente desrespeito à natureza e à dignidade da pessoa humana, própria e dos demai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98320" y="-5965920"/>
            <a:ext cx="748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9920" y="762120"/>
            <a:ext cx="8218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Parece que as causas são sistêmic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ou sej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Decorrem de </a:t>
            </a:r>
            <a:r>
              <a:rPr b="1" i="1" lang="pt-BR" sz="3600" spc="-1" strike="noStrike" u="sng">
                <a:solidFill>
                  <a:srgbClr val="0066ff"/>
                </a:solidFill>
                <a:uFillTx/>
                <a:latin typeface="Tahoma"/>
              </a:rPr>
              <a:t>RELAÇÕES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 interdependentes e inter-relacionadas entre diversos componentes do </a:t>
            </a: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HABIT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-5965920"/>
            <a:ext cx="1396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9920" y="457200"/>
            <a:ext cx="8218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omo remediá-la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 u="sng">
                <a:solidFill>
                  <a:srgbClr val="000000"/>
                </a:solidFill>
                <a:uFillTx/>
                <a:latin typeface="Arial"/>
              </a:rPr>
              <a:t>PLANEJAMENTO E GEST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ÃO </a:t>
            </a:r>
            <a:r>
              <a:rPr b="1" lang="pt-BR" sz="3400" spc="-1" strike="noStrike" u="sng">
                <a:solidFill>
                  <a:srgbClr val="000000"/>
                </a:solidFill>
                <a:uFillTx/>
                <a:latin typeface="Arial"/>
              </a:rPr>
              <a:t>SISTÊMICOS/INTEGRAD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Que possibilitam a visão e a </a:t>
            </a:r>
            <a:r>
              <a:rPr b="1" lang="pt-BR" sz="3200" spc="-1" strike="noStrike" u="sng">
                <a:solidFill>
                  <a:srgbClr val="0066ff"/>
                </a:solidFill>
                <a:uFillTx/>
                <a:latin typeface="Arial"/>
              </a:rPr>
              <a:t>integraçã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de recursos multidisciplinares, intersetoriais e transdisciplinares, cujo desempenho podem afetar, positiva ou negativamente, a sociedade como um to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76880" y="1600200"/>
            <a:ext cx="63360" cy="782640"/>
          </a:xfrm>
          <a:prstGeom prst="downArrow">
            <a:avLst>
              <a:gd name="adj1" fmla="val 50000"/>
              <a:gd name="adj2" fmla="val 30880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2254320"/>
            <a:ext cx="457200" cy="1042920"/>
          </a:xfrm>
          <a:prstGeom prst="downArrow">
            <a:avLst>
              <a:gd name="adj1" fmla="val 50000"/>
              <a:gd name="adj2" fmla="val 5702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Qual é a relação com a Conferência Mundial sobre o Desenvolvimento de Cidades ?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1º Tem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3200" spc="-1" strike="noStrike" u="sng">
                <a:solidFill>
                  <a:srgbClr val="ff3300"/>
                </a:solidFill>
                <a:uFillTx/>
                <a:latin typeface="Arial"/>
              </a:rPr>
              <a:t>Direito à Cida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LÍTICAS LOCAIS SOBRE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DIREITOS E RESPONSABILIDAD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OS CIDADÃ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2º Tem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 u="sng">
                <a:solidFill>
                  <a:srgbClr val="0066ff"/>
                </a:solidFill>
                <a:uFillTx/>
                <a:latin typeface="Arial"/>
              </a:rPr>
              <a:t>Governança e Democracia </a:t>
            </a:r>
            <a:r>
              <a:rPr b="1" lang="pt-BR" sz="3200" spc="-1" strike="noStrike" u="sng">
                <a:solidFill>
                  <a:srgbClr val="0066ff"/>
                </a:solidFill>
                <a:uFillTx/>
                <a:latin typeface="Arial"/>
              </a:rPr>
              <a:t>	</a:t>
            </a:r>
            <a:r>
              <a:rPr b="1" lang="pt-BR" sz="3200" spc="-1" strike="noStrike" u="sng">
                <a:solidFill>
                  <a:srgbClr val="0066ff"/>
                </a:solidFill>
                <a:uFillTx/>
                <a:latin typeface="Arial"/>
              </a:rPr>
              <a:t>	</a:t>
            </a:r>
            <a:r>
              <a:rPr b="1" lang="pt-BR" sz="3200" spc="-1" strike="noStrike" u="sng">
                <a:solidFill>
                  <a:srgbClr val="0066ff"/>
                </a:solidFill>
                <a:uFillTx/>
                <a:latin typeface="Arial"/>
              </a:rPr>
              <a:t>	</a:t>
            </a:r>
            <a:r>
              <a:rPr b="1" lang="pt-BR" sz="32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pt-BR" sz="3200" spc="-1" strike="noStrike" u="sng">
                <a:solidFill>
                  <a:srgbClr val="0066ff"/>
                </a:solidFill>
                <a:uFillTx/>
                <a:latin typeface="Arial"/>
              </a:rPr>
              <a:t>em C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PERIÊNCIAS INOVADORAS DE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GESTÃO E PARTICIP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MOCR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44600" y="152280"/>
            <a:ext cx="8472240" cy="65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UMO DO GRÁFICO QUE SERÁ APRESEN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6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Objetivo do Gráfico Planejamento e Gestão Sistêmicos/Integrados é permitir o mapeamento e a integração que possibilitam ser atingida a Paz, interna e externa, exteriorizada em efetividade e sustentabilidade. Levando em consideração que as causas do crescente desrespeito à natureza e à dignidade humana (própria e dos demais), são sistêmicas, ou seja, decorrem de relações interdependentes e interrelacionadas entre diversos componentes do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Habita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preconiza-se o planejamento e gestão sistêmicos/integrados, que possibilitam a visão e a integração de recursos multidisciplinares, intersetoriais e transdisciplinares, cujos desempenhos podem afetar, positiva ou negativamente, a sociedade como um todo. Nesse contexto, pode-se estabelecer o que fazer, como, quem, onde, e quando/porque, bem como de que forma mapear e integralizar todos esses componentes. Para isso, verifica-se a importância de tornar-se consciente a missão comum, percebida como “benefícios mútuos” e concretizada através do atendimento de necessidades fisiológicas, psicológicas - segurança, pertencimento e auto-estima - e auto-realização (diferentemente de desejos), nos três eixos da sustentabilidade (econômico, social – saúde, educação, cidadania e segurança – e ambiental), com foco prioritário na família, de modo a gerar efeitos públicos, agregando valor sustentável. Essa missão comum exige e favorece a formação de redes de cooperação para a atuação sistêmica, priorizando o núcleo familiar e permitindo a integração dos três setores (público, privado e sociedade civil organizada) e da comunidade em ger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920" y="685800"/>
            <a:ext cx="8611920" cy="54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UMO DO GRÁFICO QUE SERÁ APRESEN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6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sas redes, que tornam visíveis esforços isolados e possibilitam a integração e a Paz (interna e externa), geram um modelo de desenvolvimento integrado e sustentável, planejado pela base da sociedade, no qual é propiciada a democracia, participativa e representativa. Em outras palavras, garantem a sobrevivência. Contudo, para que isso possa ser concretizado, o planejamento e a gestão deverão produzir o pensamento sistêmico, contemplando o mapeamento das necessidades, possibilidades e atividades, com o que se poderá atuar de forma sistêmica. Desse modo, possibilita-se a inclusão  das pessoas principalmente naquelas ações nas quais se sentem entusiasmadas, fazem a diferença (‘slice of heart’) na sociedade, sendo, por isso, lembradas, reconhecidas e valorizadas. Assim, os membros da sociedade constatarão que são úteis no contexto maior, o que aumenta a motivação na busca de aperfeiçoamento, gerando sustentabilidade no ambiente interno e externo. Isso propicia a conscientização da co-responsabilidade e a compreensão do binômio dever-direito, despertando a noção de contexto e afastando práticas imediatistas baseadas exclusivamente na punição ou vitimização. Cria, assim, o verdadeiro pensamento sistêmico, assemelhando-se ao pensamento complexo de Edgar Morin (no qual a transdisciplinaridade é um dos focos principai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44600" y="533520"/>
            <a:ext cx="8472240" cy="54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UMO DO GRÁFICO QUE SERÁ APRESEN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6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termos mais amplos, esse contexto permite o acesso a recursos aptos a implementar ações (voluntariado, Agenda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Habita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CAIXA, BNDES - Redes Sociais, etc.), bem como garante o cumprimento de diversos Tratados, Convenções, Pactos e Planos de Ações das várias Conferências das Nações Unidas (Convenção sobre a Eliminação de Todas as Formas de Discriminação Contra a Mulher, Convenção Sobre os Direitos da Criança, Plano de Ação da Conferência Mundial de População e Desenvolvimento, etc.). Ademais, se o planejamento e gestão sistêmicos utilizarem metodologias, ferramentas e sistema de avaliação, poderão ser elaborados um Índice de Desenvolvimento Sistêmico e/ou um Índice de Desenvolvimento Integrado transparentes e, portanto, confiáveis. Desse modo, diminui o risco dos investimentos efetivados no local, o que atrai recursos nacionais e internacionais para a região (por exemplo, via investimento sistêmico na bolsa de valores, através do ISE - Índice de Sustentabilidade Empresarial da Bovespa, DJSI - Dow Jones Sustainability Indexes da Bolsa de Nova York, etc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sim, desenvolve-se um ciclo de efeitos públicos, ambiente no qual é atingida a efetividade e a sustentabilidade. Na verdade, a Paz, interna e ext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04920" y="304920"/>
          <a:ext cx="8534160" cy="61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8534160" cy="61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380880" y="228600"/>
          <a:ext cx="8353440" cy="578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8353440" cy="57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04920" y="1066680"/>
          <a:ext cx="8076960" cy="434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0769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52280" y="723960"/>
          <a:ext cx="8991720" cy="53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23960"/>
                    <a:ext cx="89917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228600" y="2438280"/>
          <a:ext cx="853452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85345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52280" y="228600"/>
          <a:ext cx="852192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5219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80880" y="228600"/>
          <a:ext cx="8353440" cy="578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8353440" cy="57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13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1532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Devemos Verifica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Qual é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normalmente,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o foc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as políticas locais e das experiências de gestão e participação =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iclo dos Extr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O que podemos fazer?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iclo do Equilíb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ESTÃO DO MINISTÉRIO PÚBLICO NO PLANEJAMENTO E GESTÃO SISTÊMICOS</a:t>
            </a:r>
            <a:br>
              <a:rPr sz="24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TERCONEXÕE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e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SC – Primeiro Processo = Tradução da Visão e da Estraté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Primeira Perspectiva: Client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47920" y="4114800"/>
            <a:ext cx="7315200" cy="15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304920" y="1828800"/>
          <a:ext cx="8381880" cy="22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828800"/>
                    <a:ext cx="83818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66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EMP 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SC - Segunda Perspectiva  = Acionista/Financeira X Recurs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257800" y="2514600"/>
            <a:ext cx="3505320" cy="259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762120" y="1447920"/>
          <a:ext cx="4190760" cy="32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447920"/>
                    <a:ext cx="41907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685800" y="304920"/>
          <a:ext cx="7391520" cy="60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920"/>
                    <a:ext cx="739152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145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G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BSC - Quarta perspectiva - Aprendizado e Crescimento/Inovaçã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981080" y="4038480"/>
          <a:ext cx="655344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038480"/>
                    <a:ext cx="655344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33520" y="990720"/>
          <a:ext cx="7772400" cy="25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990720"/>
                    <a:ext cx="77724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 Ministério Público estabeleceu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para implementação: </a:t>
            </a:r>
            <a:br>
              <a:rPr sz="2800"/>
            </a:br>
            <a:br>
              <a:rPr sz="2800"/>
            </a:b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BJETIVOS-DESCRIÇÃO DO OBJETIVO-IDICADORES-UNIDADE DE MEDIDA-PERIODICIDAD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825480" y="2209680"/>
          <a:ext cx="749304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2209680"/>
                    <a:ext cx="74930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473400"/>
            <a:ext cx="8458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AIS OS REFLEXOS SISTÊMICOS DESSA FORMA DE ATUAÇÃ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1- Cumprimento de diretrizes nacionais e internacionai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ferência Internacional das Nações Unidas sobre População e Desenvolvimento – Cair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claração de Istambul sobre Assentamentos Human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8° Objetivo de Desenvolvimento do Milênio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riar uma Parceria Mundial para o Desenvolvi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Fundação Nacional de Qualidade – Fundamentos de Excelência;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m decorrência disso e por gerar diminuição no risco dos investimento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8600" y="643320"/>
            <a:ext cx="8610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2- Acesso a recursos humanos e monetá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ISE – Índice de Sustentabilidade Empresarial da Bovesp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JSI – Dow Jones Sustentability Index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ágrafo 50 da Agenda Habitat para Municíp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via financiamentos da CAIX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m verdade, o Planejamento e Gestão Sistêmicos/Integrad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 foco prioritário na famíli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 com a utilização de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icadore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cria, com transparênci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 </a:t>
            </a:r>
            <a:r>
              <a:rPr b="1" lang="pt-BR" sz="2400" spc="-1" strike="noStrike" u="sng">
                <a:solidFill>
                  <a:srgbClr val="ff3300"/>
                </a:solidFill>
                <a:uFillTx/>
                <a:latin typeface="Times New Roman"/>
              </a:rPr>
              <a:t>ciclo de efeitos público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pto desenvolver a consciência dos direitos e das responsabilidad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piciando, </a:t>
            </a:r>
            <a:r>
              <a:rPr b="1" lang="pt-BR" sz="2400" spc="-1" strike="noStrike" u="sng">
                <a:solidFill>
                  <a:srgbClr val="0066ff"/>
                </a:solidFill>
                <a:uFillTx/>
                <a:latin typeface="Times New Roman"/>
              </a:rPr>
              <a:t>Com Governança e Democracia,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1" lang="pt-BR" sz="2400" spc="-1" strike="noStrike" u="sng">
                <a:solidFill>
                  <a:srgbClr val="ff3300"/>
                </a:solidFill>
                <a:uFillTx/>
                <a:latin typeface="Times New Roman"/>
              </a:rPr>
              <a:t>Direito à Cidad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ocal de </a:t>
            </a:r>
            <a:r>
              <a:rPr b="1" lang="pt-BR" sz="2400" spc="-1" strike="noStrike" u="sng">
                <a:solidFill>
                  <a:srgbClr val="0066ff"/>
                </a:solidFill>
                <a:uFillTx/>
                <a:latin typeface="Times New Roman"/>
              </a:rPr>
              <a:t>Paz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interna e externa, exteriorizada em </a:t>
            </a:r>
            <a:r>
              <a:rPr b="1" lang="pt-BR" sz="2400" spc="-1" strike="noStrike" u="sng">
                <a:solidFill>
                  <a:srgbClr val="0066ff"/>
                </a:solidFill>
                <a:uFillTx/>
                <a:latin typeface="Times New Roman"/>
              </a:rPr>
              <a:t>efetividad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pt-BR" sz="2400" spc="-1" strike="noStrike" u="sng">
                <a:solidFill>
                  <a:srgbClr val="0066ff"/>
                </a:solidFill>
                <a:uFillTx/>
                <a:latin typeface="Times New Roman"/>
              </a:rPr>
              <a:t>sustentabilidad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ais do que isso...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POSSIBILITA COMPRE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e todos fizemos parte de uma grande família 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Harlow Solid Italic"/>
              </a:rPr>
              <a:t>que </a:t>
            </a:r>
            <a:r>
              <a:rPr b="1" lang="pt-BR" sz="3200" spc="-1" strike="noStrike">
                <a:solidFill>
                  <a:srgbClr val="000000"/>
                </a:solidFill>
                <a:latin typeface="Harlow Solid Italic"/>
              </a:rPr>
              <a:t>Gestão é </a:t>
            </a:r>
            <a:r>
              <a:rPr b="1" lang="pt-BR" sz="2800" spc="-1" strike="noStrike" u="sng">
                <a:solidFill>
                  <a:srgbClr val="0066ff"/>
                </a:solidFill>
                <a:uFillTx/>
                <a:latin typeface="Wide Latin"/>
              </a:rPr>
              <a:t>INTEGRAÇÃO</a:t>
            </a:r>
            <a:r>
              <a:rPr b="1" lang="pt-BR" sz="2800" spc="-1" strike="noStrike">
                <a:solidFill>
                  <a:srgbClr val="0066ff"/>
                </a:solidFill>
                <a:latin typeface="Harlow Solid Italic"/>
              </a:rPr>
              <a:t>!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Harlow Solid Italic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Harlow Solid Italic"/>
              </a:rPr>
              <a:t>Aliás,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Harlow Solid Italic"/>
              </a:rPr>
              <a:t>Peter Drucker</a:t>
            </a:r>
            <a:r>
              <a:rPr b="1" lang="pt-BR" sz="2800" spc="-1" strike="noStrike">
                <a:solidFill>
                  <a:srgbClr val="000000"/>
                </a:solidFill>
                <a:latin typeface="Harlow Solid Italic"/>
              </a:rPr>
              <a:t> já afirma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Harlow Solid Italic"/>
              </a:rPr>
              <a:t>“ </a:t>
            </a:r>
            <a:r>
              <a:rPr b="1" i="1" lang="pt-BR" sz="2800" spc="-1" strike="noStrike">
                <a:solidFill>
                  <a:srgbClr val="000000"/>
                </a:solidFill>
                <a:latin typeface="Harlow Solid Italic"/>
              </a:rPr>
              <a:t>A essência da administração é o </a:t>
            </a:r>
            <a:r>
              <a:rPr b="1" i="1" lang="pt-BR" sz="2800" spc="-1" strike="noStrike">
                <a:solidFill>
                  <a:srgbClr val="0066ff"/>
                </a:solidFill>
                <a:latin typeface="Harlow Solid Italic"/>
              </a:rPr>
              <a:t>ser humano</a:t>
            </a:r>
            <a:r>
              <a:rPr b="1" i="1" lang="pt-BR" sz="2800" spc="-1" strike="noStrike">
                <a:solidFill>
                  <a:srgbClr val="000000"/>
                </a:solidFill>
                <a:latin typeface="Harlow Solid Italic"/>
              </a:rPr>
              <a:t>. Seu objetivo é tornar as pessoas capazes do </a:t>
            </a:r>
            <a:r>
              <a:rPr b="1" i="1" lang="pt-BR" sz="2800" spc="-1" strike="noStrike" u="sng">
                <a:solidFill>
                  <a:srgbClr val="0066ff"/>
                </a:solidFill>
                <a:uFillTx/>
                <a:latin typeface="Harlow Solid Italic"/>
              </a:rPr>
              <a:t>desempenho em conjunto</a:t>
            </a:r>
            <a:r>
              <a:rPr b="1" i="1" lang="pt-BR" sz="2800" spc="-1" strike="noStrike">
                <a:solidFill>
                  <a:srgbClr val="000000"/>
                </a:solidFill>
                <a:latin typeface="Harlow Solid Italic"/>
              </a:rPr>
              <a:t>, tornar suas forças eficazes e suas fraquezas irrelevantes. Isso é a organização, e a administração é o fator determinante.” </a:t>
            </a:r>
            <a:r>
              <a:rPr b="0" lang="pt-BR" sz="2800" spc="-1" strike="noStrike">
                <a:solidFill>
                  <a:srgbClr val="000000"/>
                </a:solidFill>
                <a:latin typeface="Harlow Solid Italic"/>
              </a:rPr>
              <a:t>(As Novas Realidades)</a:t>
            </a:r>
            <a:r>
              <a:rPr b="1" lang="pt-BR" sz="2800" spc="-1" strike="noStrike">
                <a:solidFill>
                  <a:srgbClr val="0066ff"/>
                </a:solidFill>
                <a:latin typeface="Harlow Solid Italic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839080" y="-588924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28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Harlow Solid Italic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Harlow Solid Italic"/>
              </a:rPr>
              <a:t>No mesmo sentido, o parágrafo primeiro da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Harlow Solid Italic"/>
              </a:rPr>
              <a:t>Agenda </a:t>
            </a:r>
            <a:r>
              <a:rPr b="1" i="1" lang="pt-BR" sz="2800" spc="-1" strike="noStrike" u="sng">
                <a:solidFill>
                  <a:srgbClr val="0066ff"/>
                </a:solidFill>
                <a:uFillTx/>
                <a:latin typeface="Harlow Solid Italic"/>
              </a:rPr>
              <a:t>Habitat</a:t>
            </a: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Harlow Solid Italic"/>
              </a:rPr>
              <a:t>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Harlow Solid Italic"/>
              </a:rPr>
              <a:t>para os Municíp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“ 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...Há um senso de grande oportunidade e esperança de que pode ser construído um novo mundo, no qual o  desenvolvimento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Courier New"/>
              </a:rPr>
              <a:t>econômico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 e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Courier New"/>
              </a:rPr>
              <a:t>social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 e a proteção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Courier New"/>
              </a:rPr>
              <a:t>ambiental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, como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Courier New"/>
              </a:rPr>
              <a:t>componentes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 do desenvolvimento sustentável </a:t>
            </a:r>
            <a:r>
              <a:rPr b="1" i="1" lang="pt-BR" sz="2400" spc="-1" strike="noStrike" u="sng">
                <a:solidFill>
                  <a:srgbClr val="0066ff"/>
                </a:solidFill>
                <a:uFillTx/>
                <a:latin typeface="Courier New"/>
              </a:rPr>
              <a:t>interdependentes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 e que se reforçam mutuamente, podem ser </a:t>
            </a:r>
            <a:r>
              <a:rPr b="1" i="1" lang="pt-BR" sz="2400" spc="-1" strike="noStrike" u="sng">
                <a:solidFill>
                  <a:srgbClr val="0066ff"/>
                </a:solidFill>
                <a:uFillTx/>
                <a:latin typeface="Courier New"/>
              </a:rPr>
              <a:t>realizados por meio da solidariedade e cooperação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 dentro e entre países através de parcerias eficazes em todos os níveis.”</a:t>
            </a:r>
            <a:r>
              <a:rPr b="1" lang="pt-BR" sz="2800" spc="-1" strike="noStrike">
                <a:solidFill>
                  <a:srgbClr val="0066ff"/>
                </a:solidFill>
                <a:latin typeface="Harlow Solid Italic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SUMO DOS GRÁFICOS QUE SERÃO APRESEN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34880" y="1400040"/>
          <a:ext cx="8132760" cy="814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1400040"/>
                    <a:ext cx="8132760" cy="814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77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om esses conceitos podemos efetivar o 3º tema da conferência mundial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ff3300"/>
                </a:solidFill>
                <a:uFillTx/>
                <a:latin typeface="Arial"/>
              </a:rPr>
              <a:t>Desenvolvimento Local em C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rocessos de </a:t>
            </a: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investimentos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66ff"/>
                </a:solidFill>
                <a:latin typeface="Arial"/>
              </a:rPr>
              <a:t>em Capital Social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par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Desenvolver Ativos Econômicos, Ambientais, Humanos, Sociais e Polí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4920" y="222840"/>
            <a:ext cx="8610480" cy="78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6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STRATÉGIAS GER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16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Mapea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necessidad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fisiológicas; psicológicas e de auto-realização), d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ssibilidade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d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ividad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dos três setores e da comunidade em geral (constituição de banco de dados; mapeamento sistêmico -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alanced Scorecar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Tradução da Visão e da Estratég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16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Integr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A-Reuniões; B-Modelos - projetos e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indicador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; C- Replicação -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fóruns, seminários, jornadas, internet, etc.)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(B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lanced Scorecar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Tradução da Visão e da Estratégia; Comunicação e Conexão; Planejamento de Negócios; Aprendizado e Feedba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16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IDS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- Índice de Desenvolvimento Sistêm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(ou/e IDI -Índice de Desenvolvimento Integr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Implementando as estratégias gerais é possível a elaboração do IDS e de indicadores de desenvolvimento sistêmico pessoal, familiar, municipal, estadual, regional, federal e internacional - que priorizam a qualidade das relaçõ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16000"/>
              </a:lnSpc>
              <a:buClr>
                <a:srgbClr val="000000"/>
              </a:buClr>
              <a:buSzPct val="43000"/>
              <a:buFont typeface="Wingding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16000"/>
              </a:lnSpc>
              <a:buClr>
                <a:srgbClr val="000000"/>
              </a:buClr>
              <a:buSzPct val="43000"/>
              <a:buFont typeface="Wingding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16000"/>
              </a:lnSpc>
              <a:buClr>
                <a:srgbClr val="000000"/>
              </a:buClr>
              <a:buSzPct val="43000"/>
              <a:buFont typeface="Wingding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16000"/>
              </a:lnSpc>
              <a:buClr>
                <a:srgbClr val="000000"/>
              </a:buClr>
              <a:buSzPct val="43000"/>
              <a:buFont typeface="Wingding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380880" y="228600"/>
          <a:ext cx="8217000" cy="56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8217000" cy="56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80880" y="228600"/>
          <a:ext cx="835668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83566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152280" y="228600"/>
          <a:ext cx="883944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83944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4920" y="414720"/>
            <a:ext cx="8127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pear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- Necess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(fisiológicas, psicológicas e que permitam a auto-realização);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2-Possibilidades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3- Atividades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os três setores e da comunidade em geral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(Banco de Dado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152280" y="228600"/>
          <a:ext cx="883944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83944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09480" y="790920"/>
            <a:ext cx="8305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grar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) Reuni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B) Modelos –Projetos e 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dic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) Replicação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(fóruns, seminários, jornadas, internet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ferimos </a:t>
            </a:r>
            <a:r>
              <a:rPr b="1" lang="pt-BR" sz="2400" spc="-1" strike="noStrike" u="sng">
                <a:solidFill>
                  <a:srgbClr val="ff3300"/>
                </a:solidFill>
                <a:uFillTx/>
                <a:latin typeface="Arial"/>
              </a:rPr>
              <a:t>INDICADORES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ão como método mecanicista de controle,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s sim 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orientadores de qualidade </a:t>
            </a:r>
            <a:r>
              <a:rPr b="1" lang="pt-BR" sz="2400" spc="-1" strike="noStrike" u="sng">
                <a:solidFill>
                  <a:srgbClr val="ff3300"/>
                </a:solidFill>
                <a:uFillTx/>
                <a:latin typeface="Arial"/>
              </a:rPr>
              <a:t>das relaçõ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, como afirmado na obra “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Kaplan e Norton na Prática”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26668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- “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Os indicadores destinam-se a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800" spc="-1" strike="noStrike">
                <a:solidFill>
                  <a:srgbClr val="0066ff"/>
                </a:solidFill>
                <a:latin typeface="Arial"/>
              </a:rPr>
              <a:t>congregar as pessoa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em busca da visão geral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o combinar as perspectivas..., o balanced scorecard ajuda os gerentes a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800" spc="-1" strike="noStrike" u="sng">
                <a:solidFill>
                  <a:srgbClr val="0066ff"/>
                </a:solidFill>
                <a:uFillTx/>
                <a:latin typeface="Arial"/>
              </a:rPr>
              <a:t>compreender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elo meno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implicitamente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, muitas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800" spc="-1" strike="noStrike">
                <a:solidFill>
                  <a:srgbClr val="0066ff"/>
                </a:solidFill>
                <a:latin typeface="Arial"/>
              </a:rPr>
              <a:t>i</a:t>
            </a:r>
            <a:r>
              <a:rPr b="1" i="1" lang="pt-BR" sz="2800" spc="-1" strike="noStrike" u="sng">
                <a:solidFill>
                  <a:srgbClr val="0066ff"/>
                </a:solidFill>
                <a:uFillTx/>
                <a:latin typeface="Arial"/>
              </a:rPr>
              <a:t>nterconexões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entro da empresa.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- O balanced scorecard  induz as empresas a </a:t>
            </a:r>
            <a:r>
              <a:rPr b="1" i="1" lang="pt-BR" sz="2800" spc="-1" strike="noStrike">
                <a:solidFill>
                  <a:srgbClr val="0066ff"/>
                </a:solidFill>
                <a:latin typeface="Arial"/>
              </a:rPr>
              <a:t>olhar</a:t>
            </a:r>
            <a:r>
              <a:rPr b="0" i="1" lang="pt-BR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- e a se </a:t>
            </a:r>
            <a:r>
              <a:rPr b="1" i="1" lang="pt-BR" sz="2800" spc="-1" strike="noStrike">
                <a:solidFill>
                  <a:srgbClr val="0066ff"/>
                </a:solidFill>
                <a:latin typeface="Arial"/>
              </a:rPr>
              <a:t>movimentar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pt-BR" sz="2800" spc="-1" strike="noStrike">
                <a:solidFill>
                  <a:srgbClr val="ff3300"/>
                </a:solidFill>
                <a:latin typeface="Arial"/>
              </a:rPr>
              <a:t>para frente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, ao invés de para trá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304920" y="152280"/>
          <a:ext cx="8267760" cy="585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280"/>
                    <a:ext cx="8267760" cy="58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0"/>
          <a:ext cx="9131400" cy="645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31400" cy="64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380880" y="228600"/>
          <a:ext cx="8217000" cy="56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8217000" cy="56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esse contexto, podemos acrescentar uma reflexão na busca de compreender a última pergunta da Conferência Mundial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80880" y="21337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4º tem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 u="sng">
                <a:solidFill>
                  <a:srgbClr val="ff3300"/>
                </a:solidFill>
                <a:uFillTx/>
                <a:latin typeface="Arial"/>
              </a:rPr>
              <a:t>Sustentabilidade</a:t>
            </a: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 e Cidade-</a:t>
            </a:r>
            <a:r>
              <a:rPr b="1" lang="pt-BR" sz="3200" spc="-1" strike="noStrike" u="sng">
                <a:solidFill>
                  <a:srgbClr val="0066ff"/>
                </a:solidFill>
                <a:uFillTx/>
                <a:latin typeface="Arial"/>
              </a:rPr>
              <a:t>R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 Emergência das Redes Sociais e a Cidade Sustentável do Fut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40 -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Quais as </a:t>
            </a:r>
            <a:r>
              <a:rPr b="1" i="1" lang="pt-BR" sz="2800" spc="-1" strike="noStrike" u="sng">
                <a:solidFill>
                  <a:srgbClr val="0066ff"/>
                </a:solidFill>
                <a:uFillTx/>
                <a:latin typeface="Tahoma"/>
              </a:rPr>
              <a:t>RELAÇÕES</a:t>
            </a:r>
            <a:r>
              <a:rPr b="0" i="1" lang="pt-BR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entre a </a:t>
            </a:r>
            <a:r>
              <a:rPr b="0" i="1" lang="pt-BR" sz="2800" spc="-1" strike="noStrike">
                <a:solidFill>
                  <a:srgbClr val="ff3300"/>
                </a:solidFill>
                <a:latin typeface="Arial"/>
              </a:rPr>
              <a:t>sustentabilidade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das cidades, democracia local e sistemas de governança que incorporem a participação da população em novos modelos </a:t>
            </a:r>
            <a:r>
              <a:rPr b="0" i="1" lang="pt-BR" sz="2800" spc="-1" strike="noStrike">
                <a:solidFill>
                  <a:srgbClr val="0066ff"/>
                </a:solidFill>
                <a:latin typeface="Arial"/>
              </a:rPr>
              <a:t>sistêmicos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de gestão pública compartilha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806400" y="612720"/>
          <a:ext cx="7527960" cy="5630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612720"/>
                    <a:ext cx="7527960" cy="56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04920" y="0"/>
          <a:ext cx="8267760" cy="659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267760" cy="65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228600"/>
          <a:ext cx="900432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900432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52280" y="152280"/>
          <a:ext cx="899172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99172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28600" y="152280"/>
          <a:ext cx="8763120" cy="647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876312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02:54:27Z</dcterms:created>
  <dc:creator>Rodrigo Schoeller de Moraes</dc:creator>
  <dc:description/>
  <dc:language>en-US</dc:language>
  <cp:lastModifiedBy>MP</cp:lastModifiedBy>
  <cp:lastPrinted>2008-03-17T20:57:18Z</cp:lastPrinted>
  <dcterms:modified xsi:type="dcterms:W3CDTF">2008-07-18T18:32:54Z</dcterms:modified>
  <cp:revision>215</cp:revision>
  <dc:subject/>
  <dc:title>Slide 1</dc:title>
</cp:coreProperties>
</file>