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9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06_A_Love_Idea.wav" ContentType="audio/x-wav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CF4-DDD5-4F51-AA1C-0CFE9EE4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65D-7210-444A-89A7-75AF744B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082-9F39-4CF8-A808-5C0EDBFF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172-21CD-47CB-B67D-14EA0DCD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A0B-B19C-4F09-A6F1-A29A5B4D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152-02AB-4DDE-A32B-29325E8C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4ED-C10F-43D3-A84F-AD2960AB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2C7-C8C1-4A9C-A2DC-DAA0282C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C02-A4D5-482D-8474-8F215E4F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56C-946C-40B8-8E6D-E1F57151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CB8-FFD2-4D7F-952C-169BA666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7EC-9341-402A-9422-0F5F7C1D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99C6-D33E-4113-AA5E-AB2184B23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6_A_Love_Idea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6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260280"/>
            <a:ext cx="765036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althazar"/>
              </a:rPr>
              <a:t>Geniet van deze muziek en beeld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950080"/>
            <a:ext cx="741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maar meer dan ooit van de woo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  <p:sndAc>
      <p:stSnd>
        <p:snd r:embed="rId2" name="06_A_Love_Ide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61440" cy="510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765000"/>
            <a:ext cx="7561440" cy="5112000"/>
          </a:xfrm>
          <a:prstGeom prst="rect">
            <a:avLst/>
          </a:prstGeom>
          <a:noFill/>
          <a:ln w="1332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6093000"/>
            <a:ext cx="5761080" cy="8254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Balthazar"/>
              </a:rPr>
              <a:t>Heb respect voor degenen die doen wat ze ku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5832720" cy="574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6920" y="549360"/>
            <a:ext cx="5832720" cy="5759280"/>
          </a:xfrm>
          <a:prstGeom prst="rect">
            <a:avLst/>
          </a:prstGeom>
          <a:noFill/>
          <a:ln w="158760">
            <a:solidFill>
              <a:srgbClr val="6db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308640"/>
            <a:ext cx="903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Balthazar"/>
              </a:rPr>
              <a:t>Roddelen getuigd van weinig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4986360" cy="593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56360" y="620640"/>
            <a:ext cx="2808360" cy="308016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Vriendelijke woorden zijn soms kort, maar hun echo sterft nooit uit.</a:t>
            </a:r>
            <a:r>
              <a:rPr b="0" lang="en-US" sz="2800" spc="-1" strike="noStrike">
                <a:solidFill>
                  <a:srgbClr val="ffffff"/>
                </a:solidFill>
                <a:latin typeface="Baltha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476280"/>
            <a:ext cx="4969080" cy="5905440"/>
          </a:xfrm>
          <a:prstGeom prst="rect">
            <a:avLst/>
          </a:prstGeom>
          <a:noFill/>
          <a:ln w="114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4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48600" cy="583704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4" name=""/>
          <p:cNvSpPr/>
          <p:nvPr/>
        </p:nvSpPr>
        <p:spPr>
          <a:xfrm>
            <a:off x="826920" y="5032440"/>
            <a:ext cx="74901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Mensen die te vol zijn van zichzelf, moeten dringend op dieet</a:t>
            </a:r>
            <a:r>
              <a:rPr b="1" lang="en-US" sz="2800" spc="-1" strike="noStrike">
                <a:solidFill>
                  <a:srgbClr val="c8d973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c8d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86520" cy="5784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684360" y="549360"/>
            <a:ext cx="7848360" cy="5832360"/>
          </a:xfrm>
          <a:prstGeom prst="rect">
            <a:avLst/>
          </a:prstGeom>
          <a:noFill/>
          <a:ln w="12060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0760" y="5321160"/>
            <a:ext cx="23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ff33"/>
                </a:solidFill>
                <a:latin typeface="Arial"/>
              </a:rPr>
              <a:t>Tot zi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ff33"/>
                </a:solidFill>
                <a:latin typeface="Arial"/>
              </a:rPr>
              <a:t>P@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8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3213000"/>
            <a:ext cx="7704000" cy="2808360"/>
          </a:xfrm>
          <a:prstGeom prst="rect">
            <a:avLst/>
          </a:prstGeom>
          <a:noFill/>
          <a:ln w="123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549360"/>
            <a:ext cx="6840720" cy="4751280"/>
          </a:xfrm>
          <a:prstGeom prst="rect">
            <a:avLst/>
          </a:prstGeom>
          <a:noFill/>
          <a:ln w="123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769440" cy="4608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82160" y="5300640"/>
            <a:ext cx="147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c8d973"/>
                </a:solidFill>
                <a:latin typeface="Arial"/>
              </a:rPr>
              <a:t>Ei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473040"/>
            <a:ext cx="8064360" cy="5932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6676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5013360"/>
            <a:ext cx="7488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Een kind wordt volwassen op de dag dat het beseft dat er geen volwassenen zijn.</a:t>
            </a:r>
            <a:r>
              <a:rPr b="0" lang="en-US" sz="2800" spc="-1" strike="noStrike">
                <a:solidFill>
                  <a:srgbClr val="c8d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47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765000"/>
            <a:ext cx="7920000" cy="5472360"/>
          </a:xfrm>
          <a:prstGeom prst="rect">
            <a:avLst/>
          </a:prstGeom>
          <a:noFill/>
          <a:ln w="88920">
            <a:solidFill>
              <a:srgbClr val="ff3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16720" y="1197000"/>
            <a:ext cx="1552680" cy="1419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5013360"/>
            <a:ext cx="7561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Kwaadspreken van anderen is een oneerlijke manier om zichzelf te prijzen.</a:t>
            </a:r>
            <a:r>
              <a:rPr b="0" lang="en-US" sz="2800" spc="-1" strike="noStrike">
                <a:solidFill>
                  <a:srgbClr val="ffffff"/>
                </a:solidFill>
                <a:latin typeface="Baltha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681440" cy="35114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2624040" cy="20160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580000" y="3789360"/>
            <a:ext cx="2624040" cy="20160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916360" y="3357720"/>
            <a:ext cx="3600360" cy="2766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395280" y="404640"/>
            <a:ext cx="8497800" cy="61930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04640"/>
            <a:ext cx="8248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Ofwel hou je van iemand ofwel spreek je er kwaad van</a:t>
            </a:r>
            <a:r>
              <a:rPr b="0" lang="en-US" sz="2800" spc="-1" strike="noStrike">
                <a:solidFill>
                  <a:srgbClr val="c8d973"/>
                </a:solidFill>
                <a:latin typeface="Baltha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6927 -0.01065 L -0.23785 -0.01065 E">
                                      <p:cBhvr>
                                        <p:cTn id="1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4097 2.96296E-006 L 0.25035 -0.01065 E">
                                      <p:cBhvr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65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201080" cy="5184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42920" y="836640"/>
            <a:ext cx="7201080" cy="5184720"/>
          </a:xfrm>
          <a:prstGeom prst="rect">
            <a:avLst/>
          </a:prstGeom>
          <a:noFill/>
          <a:ln w="1429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7056360" cy="504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6021360"/>
            <a:ext cx="8163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De mens die liefheeft zonder jaloezie, heeft niet werkelijk lief</a:t>
            </a:r>
            <a:r>
              <a:rPr b="0" lang="en-US" sz="2800" spc="-1" strike="noStrike">
                <a:solidFill>
                  <a:srgbClr val="c8d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44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noFill/>
          <a:ln w="130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907920"/>
            <a:ext cx="7056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Onze afgunst duurt altijd langer dan het geluk van hen die wij benijden.</a:t>
            </a:r>
            <a:r>
              <a:rPr b="0" lang="en-US" sz="2800" spc="-1" strike="noStrike">
                <a:solidFill>
                  <a:srgbClr val="ffffff"/>
                </a:solidFill>
                <a:latin typeface="Baltha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9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61440" cy="540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620640"/>
            <a:ext cx="7561440" cy="5400720"/>
          </a:xfrm>
          <a:prstGeom prst="rect">
            <a:avLst/>
          </a:prstGeom>
          <a:noFill/>
          <a:ln w="130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5950080"/>
            <a:ext cx="7848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Zelfkennis is als een ziekenhuisbed: proper maar pijnlijk.</a:t>
            </a:r>
            <a:r>
              <a:rPr b="0" lang="en-US" sz="2800" spc="-1" strike="noStrike">
                <a:solidFill>
                  <a:srgbClr val="ffffff"/>
                </a:solidFill>
                <a:latin typeface="Baltha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6408720" cy="4060800"/>
          </a:xfrm>
          <a:prstGeom prst="rect">
            <a:avLst/>
          </a:prstGeom>
          <a:ln w="88920">
            <a:solidFill>
              <a:srgbClr val="c47500"/>
            </a:solidFill>
            <a:miter/>
          </a:ln>
        </p:spPr>
      </p:pic>
    </p:spTree>
  </p:cSld>
  <p:transition spd="slow" advTm="9000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576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6165720"/>
            <a:ext cx="7005600" cy="52056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Ervaring is dat wat van pijn overblijft.</a:t>
            </a:r>
            <a:r>
              <a:rPr b="0" lang="en-US" sz="2800" spc="-1" strike="noStrike">
                <a:solidFill>
                  <a:srgbClr val="c8d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906480"/>
            <a:ext cx="7058160" cy="479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908000" y="1484280"/>
            <a:ext cx="5400720" cy="36702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b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5805360"/>
            <a:ext cx="7885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althazar"/>
              </a:rPr>
              <a:t>Vrienden zijn als bomen. Ze wachten tot je nog eens langs komt</a:t>
            </a:r>
            <a:r>
              <a:rPr b="0" lang="en-US" sz="2800" spc="-1" strike="noStrike">
                <a:solidFill>
                  <a:srgbClr val="ffffff"/>
                </a:solidFill>
                <a:latin typeface="Baltha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6:49Z</dcterms:created>
  <dc:creator>Patrick</dc:creator>
  <dc:description/>
  <dc:language>en-US</dc:language>
  <cp:lastModifiedBy>Smets</cp:lastModifiedBy>
  <dcterms:modified xsi:type="dcterms:W3CDTF">2008-09-25T18:20:04Z</dcterms:modified>
  <cp:revision>7</cp:revision>
  <dc:subject/>
  <dc:title>Dia 1</dc:title>
</cp:coreProperties>
</file>