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5FB-D6C1-4B16-96B3-C5A5F83F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25E-4856-4D1F-A84F-51FF3984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012-09AD-48C2-90FB-796F52BC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156-FFF9-4DFD-A14B-57F07B7B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67B7-71D6-419B-A5CC-844DD779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4DB1-133F-4BF9-A00E-20E54E9D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DDB6-6363-455F-91E4-801AC83D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A6F0-4A1B-4C67-BE0A-A692444A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E16D-13F6-41AF-BC15-F870EEC4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668F-06F1-46CD-826F-82844E07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8AEA-4FD0-4A09-A67F-19417114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605-5C3D-4C35-9A86-359A3AB1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06EA-6D6B-493D-B542-F4C37557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B5E2-A4E2-4E40-9FCF-6AB0DED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4431-7ED9-47D3-B4A2-3657A135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B7C0-4CBD-4842-B118-8878088D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7B7A-B02B-471F-863E-3DE8E600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044-20D7-468D-813C-F15A35CB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493-C4BB-480A-A7FA-643798CB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575-F558-446D-B2C5-2B34934A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7B2-781D-4451-9B50-0A511B24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AE2-3290-4268-94BC-31E43F01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3FC-36E8-4A9F-BD8C-8C60055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BA6-E85F-49A9-A171-F5C556E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b84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45BD-D6A6-46D7-8199-9668328BA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b84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E768-F1AE-4886-AF03-8F2CD628D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Z:\newtek\_backgrounds_1.02\Tim\PP template sample\blue_globe.png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Line 5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228b"/>
                </a:solidFill>
                <a:latin typeface="Arial Black"/>
              </a:rPr>
              <a:t>Turn It Off!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rom the CD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8495"/>
                </a:solidFill>
                <a:latin typeface="Arial"/>
              </a:rPr>
              <a:t>Going Green with Dr. Jean!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pic>
        <p:nvPicPr>
          <p:cNvPr id="86" name="Picture 8" descr="glove01.gif"/>
          <p:cNvPicPr/>
          <p:nvPr/>
        </p:nvPicPr>
        <p:blipFill>
          <a:blip r:embed="rId3"/>
          <a:stretch/>
        </p:blipFill>
        <p:spPr>
          <a:xfrm>
            <a:off x="5460840" y="1828800"/>
            <a:ext cx="35560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2"/>
          <a:stretch/>
        </p:blipFill>
        <p:spPr>
          <a:xfrm>
            <a:off x="262080" y="603360"/>
            <a:ext cx="8162640" cy="210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Z:\newtek\_backgrounds_1.02\Tim\PP template sample\blue_globe.png"/>
          <p:cNvPicPr/>
          <p:nvPr/>
        </p:nvPicPr>
        <p:blipFill>
          <a:blip r:embed="rId3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tvOffPPpic.gif"/>
          <p:cNvPicPr/>
          <p:nvPr/>
        </p:nvPicPr>
        <p:blipFill>
          <a:blip r:embed="rId4"/>
          <a:stretch/>
        </p:blipFill>
        <p:spPr>
          <a:xfrm>
            <a:off x="4267080" y="2819520"/>
            <a:ext cx="487692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262080" y="603360"/>
            <a:ext cx="8162640" cy="2620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Z:\newtek\_backgrounds_1.02\Tim\PP template sample\blue_globe.png"/>
          <p:cNvPicPr/>
          <p:nvPr/>
        </p:nvPicPr>
        <p:blipFill>
          <a:blip r:embed="rId3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TubPPpic.jpg"/>
          <p:cNvPicPr/>
          <p:nvPr/>
        </p:nvPicPr>
        <p:blipFill>
          <a:blip r:embed="rId4"/>
          <a:stretch/>
        </p:blipFill>
        <p:spPr>
          <a:xfrm>
            <a:off x="4419720" y="3276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262080" y="603360"/>
            <a:ext cx="8162640" cy="221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doorShutPPpic.gif"/>
          <p:cNvPicPr/>
          <p:nvPr/>
        </p:nvPicPr>
        <p:blipFill>
          <a:blip r:embed="rId3"/>
          <a:stretch/>
        </p:blipFill>
        <p:spPr>
          <a:xfrm>
            <a:off x="5697360" y="2514600"/>
            <a:ext cx="27226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262080" y="603360"/>
            <a:ext cx="8162640" cy="2219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flashlightsPPpic.gif"/>
          <p:cNvPicPr/>
          <p:nvPr/>
        </p:nvPicPr>
        <p:blipFill>
          <a:blip r:embed="rId3"/>
          <a:stretch/>
        </p:blipFill>
        <p:spPr>
          <a:xfrm>
            <a:off x="3848040" y="3429000"/>
            <a:ext cx="457200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262080" y="603360"/>
            <a:ext cx="8162640" cy="221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glove02.gif"/>
          <p:cNvPicPr/>
          <p:nvPr/>
        </p:nvPicPr>
        <p:blipFill>
          <a:blip r:embed="rId3"/>
          <a:stretch/>
        </p:blipFill>
        <p:spPr>
          <a:xfrm>
            <a:off x="4724280" y="2819520"/>
            <a:ext cx="3505320" cy="3632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Z:\newtek\_backgrounds_1.02\Tim\PP template sample\blue_globe.png"/>
          <p:cNvPicPr/>
          <p:nvPr/>
        </p:nvPicPr>
        <p:blipFill>
          <a:blip r:embed="rId2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2" descr=""/>
          <p:cNvPicPr/>
          <p:nvPr/>
        </p:nvPicPr>
        <p:blipFill>
          <a:blip r:embed="rId3"/>
          <a:stretch/>
        </p:blipFill>
        <p:spPr>
          <a:xfrm>
            <a:off x="530280" y="1212840"/>
            <a:ext cx="8163000" cy="4200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1:47:47Z</dcterms:created>
  <dc:creator>eclipse</dc:creator>
  <dc:description/>
  <dc:language>en-US</dc:language>
  <cp:lastModifiedBy>Alex May</cp:lastModifiedBy>
  <dcterms:modified xsi:type="dcterms:W3CDTF">2009-04-02T13:48:28Z</dcterms:modified>
  <cp:revision>35</cp:revision>
  <dc:subject/>
  <dc:title>PowerPoint Presentation</dc:title>
</cp:coreProperties>
</file>